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4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23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8.jpeg" ContentType="image/jpeg"/>
  <Override PartName="/ppt/media/image19.jpeg" ContentType="image/jpeg"/>
  <Override PartName="/ppt/media/image25.png" ContentType="image/pn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438B-2D03-4C9C-92D4-A4CE651B01D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467C-83B5-49F5-90BF-F475606B40D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838C-193F-4850-B081-F1B35B557AA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6CCC-40C6-4C09-AE81-7AB2EB98371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9810-5408-43E9-8C8B-4A6D13A9887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C29F-DB88-49D5-B1FD-28A9EEBC88B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5246-BCEA-41EE-88DF-B9AF55CE70B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ww.capacitaciep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ww.capacitaciep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ww.capacitaciep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A9CA-C632-4CB6-AF5B-02E50B398E5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5B3-D70E-4C71-A5F6-3F2A0D22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DE1-59E2-4BAC-B9C0-56744A0A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61D41-187F-4E0C-99CE-F25EA5DE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0AECE-5110-4588-AB20-EA4CB585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07CCC0-A060-4F61-8091-2FB773F8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6A4034-4B0C-4917-B514-4B5B6D21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72D6A-74CF-4A7C-8231-CE736526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B6F3E2-623D-43BB-86E5-FD5F77B4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31EE5-0588-46FD-BF84-0BFF6582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97016-8C76-4114-ADC3-9B69F3D6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206FC-0A56-4053-B21E-3B746A08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0189B-E2FF-4D76-9F55-2F8207E3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70D3-7DF4-4931-8CE3-ADA9173A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87373-6191-41A6-B4EC-F4BF6462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D1F20-C8CB-4E1B-BE16-B92129E7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ABC43-E5CE-4F83-A718-CA193182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57D1F6-7282-4703-A3A5-AA289FF2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AD9A5-A355-4DA4-BBA8-BDDF4FCA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95209-CB24-4727-A2EA-BB6514E3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B3DC6-BBA8-4B54-B532-0D533647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ED840-C351-4B4D-92E9-74B2B7F4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38463-3BD4-45D8-A03C-753121DB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35B40-F617-4934-909F-7F3F5070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065-2C4D-4A30-80D6-3E390E16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D7258-CA69-4147-A73A-B7DC53EB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0A5EC-8D4F-4047-9F69-047BC60A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FE6BF-20C3-45B7-97C8-202EA441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F3AAC-6802-4E30-A8EB-72C6F63F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51191-146C-44FE-93A9-0FBFFB33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D1C3E-44D1-4D52-A98B-3AC65E3D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FA9AD-97CB-4F50-ACCF-BD4D94A9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D8475-BC54-4E0A-93C0-652B806A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640EB-9707-4355-B529-799D92C8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93D9A-9D4A-4E07-A047-288B028A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2189-3A2E-4FF9-9BE7-784255CB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6620E-5C5E-4E20-B3B5-0F45002F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62CAB-545E-4D7B-8F3A-A6DD5B4A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9E879-3008-4515-A0A8-A5F6F355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F06FF-289F-4D49-8504-4522E29B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05221-54DA-4574-B356-EEFBB03E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D4C55-7E33-45A2-ABC5-491648DC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4F12B1-8B65-4434-A47B-DEF4CAD5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5F50A-5CC5-464B-A1E4-14C96BBE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E3EF1-7E3A-4362-B6F0-833BE9A1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6EDC7-C4AA-4105-9619-B700C8DF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8EB1-BB19-4ADB-A9BF-2930679F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7DDE24-35E9-4A7F-AE38-EF21499A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521B67-56A4-4AC3-9D78-A8D97269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7B746-D894-4C83-AD28-F0CE59CF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9A89A-4A62-4F5B-AD13-EC6A6842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86EBB-8278-4FA6-B39D-BDCC0ED5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D9BBC-05CB-44FD-8F10-98762E31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F31B9-7DD7-4D72-882F-3EEA9918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BB2F8-72F7-4121-84C0-9DE0D495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3154C-DEBB-4E1B-8701-A6C271F4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4F39CA-3370-49CE-BF7C-D28DAA83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F3C4-CF0E-404B-B8C8-F66DE09F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DFBB3-BFA9-4558-B8F4-1BB50698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61F80-B5AF-4A5C-BB3A-0CCB3C0D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B3D06-D75F-4F85-8265-01027A17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3245BC-A29F-468B-91B2-F1410196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8B9E7-BB67-48C7-BF3A-A95C2729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FBEA0-EED2-4233-818E-B9294265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2DAB4-9237-4B12-AEE4-EDF124A5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384E-06B9-4688-8DAA-67274C0D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F3BC-F634-4358-8D1C-C088E137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D2D0-404C-44FB-BD79-42F5A491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F6DC-5AAA-4486-8A28-031C71F3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455-F955-4F69-8141-C3521947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3FFA-6A55-4E17-8489-3BA69644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77D4-8B73-4C2D-A2CA-46AD96F2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173A-2583-4553-8FED-2BD760D4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4551-93E9-4786-B5A5-9B5E6A2F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63E0-99D7-4E68-9EB2-6A96AB57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968B8-AE27-4013-82A1-D32C77FD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C9C6A-8A52-4532-B6BC-8BA4AA45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15496-E633-42E9-BD7C-C37E51FE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25A10-0E34-41D1-84EB-176C5C19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DE427-4C6D-4CC7-BC03-A17C8ABB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B0C-4AC5-4B5C-A7F1-8C8BC8DB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17331-C6C6-4EFD-A75B-9B00ECD9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29A0A-4DD2-4DDE-858B-A6FECBD9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F7A49-4C88-47BE-8823-DEB49679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4A878-4700-45F0-A1E5-5FA97315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53F8D-69A6-4C74-B779-FAD8D3E2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1A08E-577E-413D-80A5-3BBB23DE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1900A-3308-42C3-ACCD-82C6B96E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907BF-3459-4E5E-832F-249C1C4E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B4275-64C4-41A1-AAA6-FD6C4F7C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1DF82-9B18-4E57-B65D-209DED38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058-C1C4-4A54-9DF9-B8559FC4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B9CAB-78EE-4F0C-AD90-EAE1AE9B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DBC79-362E-46D3-A255-54B18ED2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5AA2B-960D-4AC7-B19E-66364733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B9078-DBCB-4F6A-9E40-74F2051C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6443C-1A46-4B93-8B38-6BAABA9E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0CA13-7AA1-4B26-8D8E-BBAD721B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0DF02-225C-4587-B6FE-80E90CB3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42E76-8908-4724-A3AA-1AE17DC1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C519C-09BA-49FC-BC22-9B7010F0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A6334-209C-40E9-9F21-27B610B4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B4D-9F3C-415C-AE03-16BC77F1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20B27-F6F0-4504-B5D8-30812C81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9DC04-16F8-4FE2-8E45-EE62044A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85887-783C-47B6-8EF4-A6D9DFD2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E8262-4FDD-422D-8D1F-DA52B3EA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3B02A-F6AA-4741-830F-BCFD2A0E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25A55-7857-4197-BF25-6CBE2762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F3123-0847-471C-B6AC-39B14160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47599-0C2D-4CCD-B3F1-3E8AFFE1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557D2-850F-4CAE-B935-E19AA0D8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CE89B-FE88-484E-8810-E768C15A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BF6-E7DD-4707-B792-80A68E98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6EAF7-D2D1-43A3-B5FC-61E9B147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D05E1-240B-44A6-B51D-6E744EC0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C7320-61EE-42E0-8080-0F4832FD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FE76D-FA22-4C57-B659-257811E7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93D80-361A-4DD0-896D-002B6151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057FD-F101-4CD0-B1C5-811E3690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DE643-86AD-42D8-AA7B-61D4DEDB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98890-1042-44D3-9CC3-3F9725FA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B4C56-176B-43A8-9BA3-C3FC0507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35D88-DC1A-497E-804F-69CBE4AA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CE5-DF4A-408E-8267-3F0DC16D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8E8B0-745A-42EF-8BAB-2A8BC274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DACCD-E5F6-4B60-B073-6F0FEF44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47206-9075-459F-A52D-12B757E1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3DF75-2090-405A-B6B9-A316BF9F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E0C55-C611-4BCF-8E77-088E2395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0488F-E4C0-4C0C-84ED-BFE3F993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50EE4-39E8-4ABF-BF32-B3B45B7D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6C53B-84F5-4A67-AD69-51D2123B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A9854-0208-4BA1-B697-5FAFCF25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5AB50-970D-47F5-BD17-E53E6BC3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5D9-C7ED-4A5E-BFBA-57B78074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49554-3B21-4D2B-AD3A-A9F61C92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C9866-774E-4AB6-8CDC-7053D70D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8113C-2C2A-4B36-824F-7B3245E1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EBFAA-5EFB-4CDC-B23D-B4A148FA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153FD-853E-42BC-A341-F2903D12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07B56-15DD-41BA-832B-21742A9B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6BFA2-4334-4992-B723-9EBD3513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0C062-12DB-4D27-875B-5DD26B41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C6376-7592-4FF1-8598-71D25E95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BE472-3AA4-4715-B9FA-B2D2DEE0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07B4-72E4-4CED-BA7A-39A2D6E6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DEF9D-92C2-46C9-B22A-90681360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E9DA1-C814-4D21-8C9A-95CA1887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F6F5F-6131-48D2-A96B-44E8E55C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1691E-F595-41E5-9E77-CC827F1B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63433-6453-421D-A6A4-76E931C1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6B622-BB67-4BFB-AA7B-C46EA98A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C69E4-916F-4176-93A5-3B5DAACC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760849-98B4-41C6-BD1E-9D447F96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8B6117-7B7F-4F66-96A6-118A5778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AFDD9-D1C9-4A13-B254-83D475C9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B601-0652-4F28-9B57-5BFCE251187D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5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4D70-455F-4E47-A31F-BC5C3BA522D0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CBC2-0555-41BE-AA2B-FB3CD61C8E81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21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5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26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27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28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330C-2D4B-4645-A330-AF862552BD8C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CIEPI Profesionalización Instituc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BFB5-D862-4CBB-8047-3DAEB6CB12C0}" type="slidenum">
              <a:rPr b="0" lang="es-ES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1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2A45-F36C-4B11-9297-1D93B180563C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691A-2EDD-4841-B3B0-76F47CD4764F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1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3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4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5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6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8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9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0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C41A-3658-44B8-A090-F820C17ED6DB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44d2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12BA-1664-4349-9997-828ECC0FF6E5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44d2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1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4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5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6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7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29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0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6027-880B-404A-A4BE-0484FE8E41FE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2069-4600-4494-9F67-EC583CC072FF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5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7748-AA8A-488A-B545-9DD6B2F6A5CE}" type="slidenum">
              <a:rPr b="0" lang="es-MX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23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5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7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ba523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cba52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E077-9FEB-424A-BD24-BAF4CA754ABB}" type="slidenum">
              <a:rPr b="0" lang="es-MX" sz="1600" spc="-1" strike="noStrike">
                <a:solidFill>
                  <a:srgbClr val="cba52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99720" y="2071440"/>
            <a:ext cx="745164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99"/>
                </a:solidFill>
                <a:latin typeface="Georgia"/>
              </a:rPr>
              <a:t>MODELO DE FORMACION DEL MAESTRO COMPETENTE EN  LA EDUCACIÓN BÁSICA 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4356000" y="40464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611280" y="260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3571920" y="5143680"/>
            <a:ext cx="45291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Bradley Hand ITC"/>
              </a:rPr>
              <a:t>Helga Patricia Frola Ru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Bradley Hand ITC"/>
              </a:rPr>
              <a:t>José de Jesús Velásquez Nava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Bradley Hand ITC"/>
              </a:rPr>
              <a:t>Instructores Nacionales de CIECI, S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6" descr="SC logo_CIECI_s"/>
          <p:cNvPicPr/>
          <p:nvPr/>
        </p:nvPicPr>
        <p:blipFill>
          <a:blip r:embed="rId1"/>
          <a:stretch/>
        </p:blipFill>
        <p:spPr>
          <a:xfrm>
            <a:off x="2786040" y="500040"/>
            <a:ext cx="40719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Rectangle 2" descr=""/>
          <p:cNvPicPr/>
          <p:nvPr/>
        </p:nvPicPr>
        <p:blipFill>
          <a:blip r:embed="rId1"/>
          <a:stretch/>
        </p:blipFill>
        <p:spPr>
          <a:xfrm>
            <a:off x="341280" y="353880"/>
            <a:ext cx="80406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285840" y="1214280"/>
            <a:ext cx="82296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Dominio de las TIC por parte de  la generación jov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ba523"/>
                </a:solidFill>
                <a:latin typeface="Georgia"/>
              </a:rPr>
              <a:t>JUSTIFICACIÓN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pic>
        <p:nvPicPr>
          <p:cNvPr id="734" name="Picture 4" descr="http://2.bp.blogspot.com/_S4-IXISld7U/SxL0wFKJ6MI/AAAAAAAACss/hyiDNuW4w-s/s1600/goolearse.jpg"/>
          <p:cNvPicPr/>
          <p:nvPr/>
        </p:nvPicPr>
        <p:blipFill>
          <a:blip r:embed="rId1"/>
          <a:stretch/>
        </p:blipFill>
        <p:spPr>
          <a:xfrm>
            <a:off x="1116000" y="2276640"/>
            <a:ext cx="7056360" cy="4324320"/>
          </a:xfrm>
          <a:prstGeom prst="rect">
            <a:avLst/>
          </a:prstGeom>
          <a:ln w="0">
            <a:noFill/>
          </a:ln>
        </p:spPr>
      </p:pic>
      <p:sp>
        <p:nvSpPr>
          <p:cNvPr id="735" name="6 Cara sonriente"/>
          <p:cNvSpPr/>
          <p:nvPr/>
        </p:nvSpPr>
        <p:spPr>
          <a:xfrm>
            <a:off x="8286840" y="6000840"/>
            <a:ext cx="571320" cy="571320"/>
          </a:xfrm>
          <a:prstGeom prst="smileyFace">
            <a:avLst>
              <a:gd name="adj" fmla="val 9282"/>
            </a:avLst>
          </a:prstGeom>
          <a:solidFill>
            <a:srgbClr val="a5b592"/>
          </a:solidFill>
          <a:ln w="11520">
            <a:solidFill>
              <a:srgbClr val="78846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4" descr="informaticapatos"/>
          <p:cNvPicPr/>
          <p:nvPr/>
        </p:nvPicPr>
        <p:blipFill>
          <a:blip r:embed="rId1"/>
          <a:stretch/>
        </p:blipFill>
        <p:spPr>
          <a:xfrm>
            <a:off x="611280" y="222120"/>
            <a:ext cx="8281800" cy="6375600"/>
          </a:xfrm>
          <a:prstGeom prst="rect">
            <a:avLst/>
          </a:prstGeom>
          <a:ln w="0">
            <a:noFill/>
          </a:ln>
        </p:spPr>
      </p:pic>
      <p:sp>
        <p:nvSpPr>
          <p:cNvPr id="737" name="2 Cara sonriente"/>
          <p:cNvSpPr/>
          <p:nvPr/>
        </p:nvSpPr>
        <p:spPr>
          <a:xfrm>
            <a:off x="7885080" y="6093000"/>
            <a:ext cx="719280" cy="576000"/>
          </a:xfrm>
          <a:prstGeom prst="smileyFace">
            <a:avLst>
              <a:gd name="adj" fmla="val 9282"/>
            </a:avLst>
          </a:prstGeom>
          <a:solidFill>
            <a:srgbClr val="a5b592"/>
          </a:solidFill>
          <a:ln w="11520">
            <a:solidFill>
              <a:srgbClr val="78846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611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La composición y modalidades de famili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9" name="Picture 2" descr="http://webalia.com/imgs/1gaturro.jpg"/>
          <p:cNvPicPr/>
          <p:nvPr/>
        </p:nvPicPr>
        <p:blipFill>
          <a:blip r:embed="rId1"/>
          <a:stretch/>
        </p:blipFill>
        <p:spPr>
          <a:xfrm>
            <a:off x="755640" y="1341360"/>
            <a:ext cx="7896240" cy="5112000"/>
          </a:xfrm>
          <a:prstGeom prst="rect">
            <a:avLst/>
          </a:prstGeom>
          <a:ln w="0">
            <a:noFill/>
          </a:ln>
        </p:spPr>
      </p:pic>
      <p:sp>
        <p:nvSpPr>
          <p:cNvPr id="740" name="5 Cara sonriente"/>
          <p:cNvSpPr/>
          <p:nvPr/>
        </p:nvSpPr>
        <p:spPr>
          <a:xfrm>
            <a:off x="7956720" y="6165720"/>
            <a:ext cx="360360" cy="432000"/>
          </a:xfrm>
          <a:prstGeom prst="smileyFace">
            <a:avLst>
              <a:gd name="adj" fmla="val 9282"/>
            </a:avLst>
          </a:prstGeom>
          <a:solidFill>
            <a:srgbClr val="a5b592"/>
          </a:solidFill>
          <a:ln w="11520">
            <a:solidFill>
              <a:srgbClr val="78846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Las multivías de acceso a la informació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2" name="Picture 2" descr="http://1.bp.blogspot.com/_G9dwBz7FqGw/RrDKzqb411I/AAAAAAAAAEM/VNbfgFerYIM/s320/CincoSentidos.jpg"/>
          <p:cNvPicPr/>
          <p:nvPr/>
        </p:nvPicPr>
        <p:blipFill>
          <a:blip r:embed="rId1"/>
          <a:stretch/>
        </p:blipFill>
        <p:spPr>
          <a:xfrm>
            <a:off x="1547640" y="907920"/>
            <a:ext cx="5256360" cy="5526360"/>
          </a:xfrm>
          <a:prstGeom prst="rect">
            <a:avLst/>
          </a:prstGeom>
          <a:ln w="0">
            <a:noFill/>
          </a:ln>
        </p:spPr>
      </p:pic>
      <p:sp>
        <p:nvSpPr>
          <p:cNvPr id="743" name="3 Cara sonriente"/>
          <p:cNvSpPr/>
          <p:nvPr/>
        </p:nvSpPr>
        <p:spPr>
          <a:xfrm>
            <a:off x="7308720" y="5516640"/>
            <a:ext cx="503280" cy="433440"/>
          </a:xfrm>
          <a:prstGeom prst="smileyFace">
            <a:avLst>
              <a:gd name="adj" fmla="val 9282"/>
            </a:avLst>
          </a:prstGeom>
          <a:solidFill>
            <a:srgbClr val="a5b592"/>
          </a:solidFill>
          <a:ln w="11520">
            <a:solidFill>
              <a:srgbClr val="78846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68436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Inconsistencias entre las necesidades educativas y las alternativas que ofrece la escuel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5" name="Picture 4" descr="http://kolectivokontrakulturalnosotrxs.files.wordpress.com/2009/06/s.jpg"/>
          <p:cNvPicPr/>
          <p:nvPr/>
        </p:nvPicPr>
        <p:blipFill>
          <a:blip r:embed="rId1"/>
          <a:stretch/>
        </p:blipFill>
        <p:spPr>
          <a:xfrm>
            <a:off x="2340000" y="1197000"/>
            <a:ext cx="6048360" cy="5138640"/>
          </a:xfrm>
          <a:prstGeom prst="rect">
            <a:avLst/>
          </a:prstGeom>
          <a:ln w="0">
            <a:noFill/>
          </a:ln>
        </p:spPr>
      </p:pic>
      <p:sp>
        <p:nvSpPr>
          <p:cNvPr id="746" name="4 Cara sonriente"/>
          <p:cNvSpPr/>
          <p:nvPr/>
        </p:nvSpPr>
        <p:spPr>
          <a:xfrm>
            <a:off x="7956720" y="5950080"/>
            <a:ext cx="360360" cy="358560"/>
          </a:xfrm>
          <a:prstGeom prst="smileyFace">
            <a:avLst>
              <a:gd name="adj" fmla="val 9282"/>
            </a:avLst>
          </a:prstGeom>
          <a:solidFill>
            <a:srgbClr val="a5b592"/>
          </a:solidFill>
          <a:ln w="11520">
            <a:solidFill>
              <a:srgbClr val="78846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ba523"/>
                </a:solidFill>
                <a:latin typeface="Georgia"/>
              </a:rPr>
              <a:t>DE LA PRÁCTICA REAL A LA PRÁCTICA IDEAL</a:t>
            </a:r>
            <a:endParaRPr b="0" lang="en-US" sz="2800" spc="-1" strike="noStrike">
              <a:solidFill>
                <a:srgbClr val="cba523"/>
              </a:solidFill>
              <a:latin typeface="Georgia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357120" y="1214280"/>
          <a:ext cx="8429760" cy="2338560"/>
        </p:xfrm>
        <a:graphic>
          <a:graphicData uri="http://schemas.openxmlformats.org/drawingml/2006/table">
            <a:tbl>
              <a:tblPr/>
              <a:tblGrid>
                <a:gridCol w="2809800"/>
                <a:gridCol w="2810160"/>
                <a:gridCol w="2809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¿CÓMO ES MI PRÁCTICA HO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¿CÓMO SERÍA UNA PRÁCTICA IDE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¿CUÁLES SON MIS ÁREAS DE MEJORA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6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749" name="4 CuadroTexto"/>
          <p:cNvSpPr/>
          <p:nvPr/>
        </p:nvSpPr>
        <p:spPr>
          <a:xfrm>
            <a:off x="500040" y="3714840"/>
            <a:ext cx="8286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REFLEXIONA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seguimos haciendo lo mismo seguiremos obteniendo los mism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la única herramienta que tengo es un martillo, todos los problemas los voy a ver en forma de cla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cba523"/>
                </a:solidFill>
                <a:latin typeface="Georgia"/>
              </a:rPr>
              <a:t>¿ESTÀN PRESENTES EN TU CLASE LOS SIGUIENTES ELEMENTOS?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1428840" y="1527120"/>
            <a:ext cx="73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Georgia"/>
              </a:rPr>
              <a:t>INICI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Activació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Exploración de conocimientos previo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Plan general de clas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Georgia"/>
              </a:rPr>
              <a:t>DESARROLL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Momentos de interactvida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Momentos de interacció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Estrategias diversificada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Georgia"/>
              </a:rPr>
              <a:t>CIER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Auto y co-evaluació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Retroalimentació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Comunicación de resultado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a5b592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99"/>
                </a:solidFill>
                <a:latin typeface="Georgia"/>
              </a:rPr>
              <a:t>¿Qué es y que no es una competencia?</a:t>
            </a:r>
            <a:endParaRPr b="0" lang="en-US" sz="3400" spc="-1" strike="noStrike">
              <a:solidFill>
                <a:srgbClr val="cba523"/>
              </a:solidFill>
              <a:latin typeface="Georgia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642960" y="1301760"/>
          <a:ext cx="8072280" cy="5194440"/>
        </p:xfrm>
        <a:graphic>
          <a:graphicData uri="http://schemas.openxmlformats.org/drawingml/2006/table">
            <a:tbl>
              <a:tblPr/>
              <a:tblGrid>
                <a:gridCol w="2646360"/>
                <a:gridCol w="4002120"/>
                <a:gridCol w="708120"/>
                <a:gridCol w="715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s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ta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er al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idioma, leer y escribir, cocinar, pin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cer al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r guitarra, bordar, componer carros, multiplic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rer saber al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, Historia de México, matemáticas, tocar piano, reda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eñar al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signatura, un oficio, la lecto-escritura, co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nder al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, guitarra, redacción matemá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cer algo “bien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ntar, leer, escribir, cocinar hablar franc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ver “bien” una neces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ar las canciones que te pide el público. Cocinar con $20.- sin que se note. Conseguir un empleo, buscar un atajo para llega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-360" y="428400"/>
            <a:ext cx="8015400" cy="39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99"/>
                </a:solidFill>
                <a:latin typeface="Georgia"/>
              </a:rPr>
              <a:t>¿Qué es una competencia ?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4704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82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000099"/>
                </a:solidFill>
                <a:latin typeface="Futura Bk"/>
              </a:rPr>
              <a:t>Frente a una necesidad, es la capacidad del individuo para movilizar sus recursos (conceptuales, procedimentales y actitudinales) en una sola exhibición, que la resuelva en términos de un criterio de calidad o exigencia y se manifiesta a través de indicadores evaluable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1187280" y="6165720"/>
            <a:ext cx="741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eorgia"/>
              </a:rPr>
              <a:t>[1] Frola. (2010) </a:t>
            </a:r>
            <a:r>
              <a:rPr b="0" i="1" lang="es-ES" sz="1600" spc="-1" strike="noStrike">
                <a:solidFill>
                  <a:srgbClr val="000000"/>
                </a:solidFill>
                <a:latin typeface="Georgia"/>
              </a:rPr>
              <a:t>Maestros competentes a través de la planeación y la evaluación. Trillas.Méx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138240" y="3355920"/>
            <a:ext cx="886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4482360" y="335592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684360" y="184320"/>
          <a:ext cx="8459640" cy="8088120"/>
        </p:xfrm>
        <a:graphic>
          <a:graphicData uri="http://schemas.openxmlformats.org/drawingml/2006/table">
            <a:tbl>
              <a:tblPr/>
              <a:tblGrid>
                <a:gridCol w="3970080"/>
                <a:gridCol w="4489560"/>
              </a:tblGrid>
              <a:tr h="1949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333399"/>
                          </a:solidFill>
                          <a:latin typeface="Papyrus"/>
                          <a:ea typeface="Times New Roman"/>
                        </a:rPr>
                        <a:t>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Papyrus"/>
                          <a:ea typeface="Times New Roman"/>
                        </a:rPr>
                        <a:t>                  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Papyrus"/>
                          <a:ea typeface="Times New Roman"/>
                        </a:rPr>
                        <a:t>Helga Patricia Frola Ruí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333399"/>
                          </a:solidFill>
                          <a:latin typeface="Papyrus"/>
                          <a:ea typeface="Times New Roman"/>
                        </a:rPr>
                        <a:t>             </a:t>
                      </a:r>
                      <a:r>
                        <a:rPr b="1" lang="es-ES" sz="1600" spc="-1" strike="noStrike">
                          <a:solidFill>
                            <a:srgbClr val="333399"/>
                          </a:solidFill>
                          <a:latin typeface="Papyrus"/>
                          <a:ea typeface="Times New Roman"/>
                        </a:rPr>
                        <a:t>Instructora N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1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Licenciada en Psicología por la Universidad Nacional Autónoma de México Estudios de Maestría en Psicología y Educación Especial por  la UNA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Directora del Centro de Investigación Educativa y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  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Capacitación Institucional CIECI, S.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Certificada por  la  Universidad de Harvard – OCDE y SEP como Líder en reformas educativas ,en las  área s de Profesionalización  formación continua y evaluación del desempeño docente  en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Ex -becaria del Gobierno de Canadá en la Universidad de Toronto, para estudios en evaluación e integración educativa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Consultora y capacitadora  en materia de diseño curricular  y evaluación por competencias en más de 30  instituciones de Educación Superior y  Coordinaciones  Estatales de Educación básica,  media y superi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Autora de  libros sobre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   </a:t>
                      </a:r>
                      <a:r>
                        <a:rPr b="0" i="1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Competencias Docentes para la Evaluación  del aprendizaje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   </a:t>
                      </a:r>
                      <a:r>
                        <a:rPr b="0" i="1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Integración de estudiantes especiales y escuelas incluyentes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   </a:t>
                      </a:r>
                      <a:r>
                        <a:rPr b="0" i="1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Intervención para  problemas de conducta en el aul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  </a:t>
                      </a:r>
                      <a:r>
                        <a:rPr b="0" i="1" lang="es-MX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Maestros competentes a través de la planeación y la 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Asesora técnica, directora, y psicóloga en diversos servicios de educación especial en la Cd. de Méx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Instructora nacional del CENEV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iseñadora  de plan de estudios por competencias de la  Universidad Autónoma del Estado de More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Ponente en foros nacionales e internacionales sobre los nuevos modelos por competencias, diversidad  y  servicios educativos incluyentes en: Pórtland, Toronto, La Habana, Costa Rica, Guatemal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Consultora y capacitadora de la Dirección General de Servicios Educativos  en el DF para la  Reforma Integral de Educación Bá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Consultora del Programa de Naciones Unidas para el Desarrollo en materia de competencias para la vida,  y diversidad en Méxic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1" name="Picture 13" descr=""/>
          <p:cNvPicPr/>
          <p:nvPr/>
        </p:nvPicPr>
        <p:blipFill>
          <a:blip r:embed="rId1"/>
          <a:stretch/>
        </p:blipFill>
        <p:spPr>
          <a:xfrm>
            <a:off x="7858080" y="285840"/>
            <a:ext cx="1071720" cy="1428840"/>
          </a:xfrm>
          <a:prstGeom prst="rect">
            <a:avLst/>
          </a:prstGeom>
          <a:ln w="0">
            <a:noFill/>
          </a:ln>
        </p:spPr>
      </p:pic>
      <p:pic>
        <p:nvPicPr>
          <p:cNvPr id="672" name="6 Imagen" descr="logo_CIECI_v2.jpg"/>
          <p:cNvPicPr/>
          <p:nvPr/>
        </p:nvPicPr>
        <p:blipFill>
          <a:blip r:embed="rId2"/>
          <a:stretch/>
        </p:blipFill>
        <p:spPr>
          <a:xfrm>
            <a:off x="179280" y="333360"/>
            <a:ext cx="271476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99"/>
                </a:solidFill>
                <a:latin typeface="Georgia"/>
              </a:rPr>
              <a:t>Los dominios de la competencia</a:t>
            </a:r>
            <a:endParaRPr b="0" lang="en-US" sz="30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59" name="Oval 3"/>
          <p:cNvGrpSpPr/>
          <p:nvPr/>
        </p:nvGrpSpPr>
        <p:grpSpPr>
          <a:xfrm>
            <a:off x="3084480" y="1219320"/>
            <a:ext cx="3193920" cy="3340080"/>
            <a:chOff x="3084480" y="1219320"/>
            <a:chExt cx="3193920" cy="3340080"/>
          </a:xfrm>
        </p:grpSpPr>
        <p:pic>
          <p:nvPicPr>
            <p:cNvPr id="760" name="Oval 3" descr=""/>
            <p:cNvPicPr/>
            <p:nvPr/>
          </p:nvPicPr>
          <p:blipFill>
            <a:blip r:embed="rId1"/>
            <a:stretch/>
          </p:blipFill>
          <p:spPr>
            <a:xfrm>
              <a:off x="3084480" y="1219320"/>
              <a:ext cx="3193920" cy="33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3635280" y="1795320"/>
              <a:ext cx="2089080" cy="21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Oval 4"/>
          <p:cNvGrpSpPr/>
          <p:nvPr/>
        </p:nvGrpSpPr>
        <p:grpSpPr>
          <a:xfrm>
            <a:off x="1200240" y="2987640"/>
            <a:ext cx="3195720" cy="3048120"/>
            <a:chOff x="1200240" y="2987640"/>
            <a:chExt cx="3195720" cy="3048120"/>
          </a:xfrm>
        </p:grpSpPr>
        <p:pic>
          <p:nvPicPr>
            <p:cNvPr id="763" name="Oval 4" descr=""/>
            <p:cNvPicPr/>
            <p:nvPr/>
          </p:nvPicPr>
          <p:blipFill>
            <a:blip r:embed="rId2"/>
            <a:stretch/>
          </p:blipFill>
          <p:spPr>
            <a:xfrm>
              <a:off x="1200240" y="2987640"/>
              <a:ext cx="31957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1779480" y="3543480"/>
              <a:ext cx="2036880" cy="19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Oval 5"/>
          <p:cNvGrpSpPr/>
          <p:nvPr/>
        </p:nvGrpSpPr>
        <p:grpSpPr>
          <a:xfrm>
            <a:off x="4614840" y="3114720"/>
            <a:ext cx="3297240" cy="3219480"/>
            <a:chOff x="4614840" y="3114720"/>
            <a:chExt cx="3297240" cy="3219480"/>
          </a:xfrm>
        </p:grpSpPr>
        <p:pic>
          <p:nvPicPr>
            <p:cNvPr id="766" name="Oval 5" descr=""/>
            <p:cNvPicPr/>
            <p:nvPr/>
          </p:nvPicPr>
          <p:blipFill>
            <a:blip r:embed="rId3"/>
            <a:stretch/>
          </p:blipFill>
          <p:spPr>
            <a:xfrm>
              <a:off x="4614840" y="3114720"/>
              <a:ext cx="329724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/>
            <p:nvPr/>
          </p:nvSpPr>
          <p:spPr>
            <a:xfrm>
              <a:off x="5270400" y="3757680"/>
              <a:ext cx="1986120" cy="19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 Box 6"/>
          <p:cNvSpPr/>
          <p:nvPr/>
        </p:nvSpPr>
        <p:spPr>
          <a:xfrm>
            <a:off x="3653280" y="2349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Cognosc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Georgia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7"/>
          <p:cNvSpPr/>
          <p:nvPr/>
        </p:nvSpPr>
        <p:spPr>
          <a:xfrm>
            <a:off x="5742000" y="436572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Socioaf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Georgia"/>
              </a:rPr>
              <a:t>ACTITUD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8"/>
          <p:cNvSpPr/>
          <p:nvPr/>
        </p:nvSpPr>
        <p:spPr>
          <a:xfrm>
            <a:off x="1332000" y="4149720"/>
            <a:ext cx="22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Psicomotrí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Georgia"/>
              </a:rPr>
              <a:t>PROCED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4" descr="http://t3.gstatic.com/images?q=tbn:xjLb4QBU3fHBdM:http://www.maristas.com.ar/pastoral/img/Retiro%2520Endepa.jpg"/>
          <p:cNvPicPr/>
          <p:nvPr/>
        </p:nvPicPr>
        <p:blipFill>
          <a:blip r:embed="rId4"/>
          <a:stretch/>
        </p:blipFill>
        <p:spPr>
          <a:xfrm>
            <a:off x="3714840" y="4071960"/>
            <a:ext cx="19508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99"/>
                </a:solidFill>
                <a:latin typeface="Georgia"/>
              </a:rPr>
              <a:t>Los componentes de la competencia</a:t>
            </a:r>
            <a:endParaRPr b="0" lang="en-US" sz="35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636720" y="2283120"/>
            <a:ext cx="1932480" cy="1748880"/>
          </a:xfrm>
          <a:prstGeom prst="rect">
            <a:avLst/>
          </a:prstGeom>
          <a:solidFill>
            <a:srgbClr val="dce8f4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4" name="Oval 3"/>
          <p:cNvSpPr/>
          <p:nvPr/>
        </p:nvSpPr>
        <p:spPr>
          <a:xfrm>
            <a:off x="179280" y="2205000"/>
            <a:ext cx="2303640" cy="2448000"/>
          </a:xfrm>
          <a:prstGeom prst="ellipse">
            <a:avLst/>
          </a:prstGeom>
          <a:solidFill>
            <a:srgbClr val="fcc8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eorgia"/>
              </a:rPr>
              <a:t>Una neces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eorgia"/>
              </a:rPr>
              <a:t>del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5"/>
          <p:cNvSpPr/>
          <p:nvPr/>
        </p:nvSpPr>
        <p:spPr>
          <a:xfrm>
            <a:off x="6659640" y="1989000"/>
            <a:ext cx="2232000" cy="25909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Resolver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neces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con un nivel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exig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evalu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3714840" y="2143080"/>
            <a:ext cx="237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Responder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concep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procedimi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eorgia"/>
              </a:rPr>
              <a:t>las actitudes, en una sola       exhib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7"/>
          <p:cNvSpPr/>
          <p:nvPr/>
        </p:nvSpPr>
        <p:spPr>
          <a:xfrm>
            <a:off x="2556000" y="2349360"/>
            <a:ext cx="576000" cy="7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8"/>
          <p:cNvSpPr/>
          <p:nvPr/>
        </p:nvSpPr>
        <p:spPr>
          <a:xfrm>
            <a:off x="6156360" y="2349360"/>
            <a:ext cx="576360" cy="7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000099"/>
                </a:solidFill>
                <a:latin typeface="Georgia"/>
              </a:rPr>
              <a:t>Si no tengo una necesidad…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218960" y="17856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99"/>
                </a:solidFill>
                <a:latin typeface="Georgia"/>
              </a:rPr>
              <a:t>…</a:t>
            </a:r>
            <a:r>
              <a:rPr b="0" lang="es-MX" sz="2700" spc="-1" strike="noStrike">
                <a:solidFill>
                  <a:srgbClr val="000099"/>
                </a:solidFill>
                <a:latin typeface="Georgia"/>
              </a:rPr>
              <a:t>¿Para que evidenciar mis competencia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81" name="Picture 5" descr="enojados"/>
          <p:cNvPicPr/>
          <p:nvPr/>
        </p:nvPicPr>
        <p:blipFill>
          <a:blip r:embed="rId1"/>
          <a:stretch/>
        </p:blipFill>
        <p:spPr>
          <a:xfrm>
            <a:off x="2357280" y="2643120"/>
            <a:ext cx="370692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ba523"/>
                </a:solidFill>
                <a:latin typeface="Georgia"/>
              </a:rPr>
              <a:t>Las competencias no se enseñan…</a:t>
            </a:r>
            <a:endParaRPr b="0" lang="en-US" sz="36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68360" y="5300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es-MX" sz="3600" spc="-1" strike="noStrike">
                <a:solidFill>
                  <a:srgbClr val="000000"/>
                </a:solidFill>
                <a:latin typeface="Georgia"/>
              </a:rPr>
              <a:t>Se construyen y se demuestran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84" name="Picture 2" descr="http://t3.gstatic.com/images?q=tbn:Bn3jv6VP-CS5qM:http://gojoven.org/images/lapguatemala.jpg"/>
          <p:cNvPicPr/>
          <p:nvPr/>
        </p:nvPicPr>
        <p:blipFill>
          <a:blip r:embed="rId1"/>
          <a:stretch/>
        </p:blipFill>
        <p:spPr>
          <a:xfrm>
            <a:off x="2643120" y="2357280"/>
            <a:ext cx="371484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ba523"/>
                </a:solidFill>
                <a:latin typeface="Georgia"/>
              </a:rPr>
              <a:t>UNA ACTIVIDAD POR COMPETENCIAS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99"/>
                </a:solidFill>
                <a:latin typeface="Georgia"/>
              </a:rPr>
              <a:t>El perfil de egreso de la educación básica</a:t>
            </a:r>
            <a:endParaRPr b="0" lang="en-US" sz="3400" spc="-1" strike="noStrike">
              <a:solidFill>
                <a:srgbClr val="cba523"/>
              </a:solidFill>
              <a:latin typeface="Georgia"/>
            </a:endParaRPr>
          </a:p>
        </p:txBody>
      </p:sp>
      <p:pic>
        <p:nvPicPr>
          <p:cNvPr id="788" name="Picture 4" descr="team"/>
          <p:cNvPicPr/>
          <p:nvPr/>
        </p:nvPicPr>
        <p:blipFill>
          <a:blip r:embed="rId1"/>
          <a:stretch/>
        </p:blipFill>
        <p:spPr>
          <a:xfrm>
            <a:off x="3286080" y="2643120"/>
            <a:ext cx="3454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128240" y="5000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000099"/>
                </a:solidFill>
                <a:latin typeface="Georgia"/>
              </a:rPr>
              <a:t>¿Para qué sirve el perfil de egreso en la educación básica?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99680" y="1928880"/>
            <a:ext cx="8210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Definir el tipo de estudiante que se espera formar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Narrow"/>
              </a:rPr>
              <a:t>Hacer explícito el compromiso profesional con la institució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Ser un referente común, para la definición de los contenidos y situaciones didáctica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Servir de base para valorar la eficacia del proceso educativo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Georgia"/>
              </a:rPr>
              <a:t>El  perfil de egreso</a:t>
            </a:r>
            <a:endParaRPr b="0" lang="en-US" sz="34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566280" y="2052720"/>
            <a:ext cx="8001000" cy="39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Georgia"/>
              </a:rPr>
              <a:t>Competencia a evidenci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Demuestra dominio sobre los componentes del perfil de egreso dela educación básica indicando la jerarquía entre ellos, al representarlos con pertinencia, a través de un trabajo colaborativo, consultando fuentes de información y exponiéndolo a un colegiado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93" name="Picture 6" descr="SC logo_CIECI_s"/>
          <p:cNvPicPr/>
          <p:nvPr/>
        </p:nvPicPr>
        <p:blipFill>
          <a:blip r:embed="rId1"/>
          <a:stretch/>
        </p:blipFill>
        <p:spPr>
          <a:xfrm>
            <a:off x="0" y="5691240"/>
            <a:ext cx="264312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000000"/>
                </a:solidFill>
                <a:latin typeface="Georgia"/>
              </a:rPr>
              <a:t>A través de una… 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Georgia"/>
              </a:rPr>
              <a:t>Actividad</a:t>
            </a: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:  </a:t>
            </a:r>
            <a:r>
              <a:rPr b="0" i="1" lang="es-MX" sz="2600" spc="-1" strike="noStrike">
                <a:solidFill>
                  <a:srgbClr val="000000"/>
                </a:solidFill>
                <a:latin typeface="Georgia"/>
              </a:rPr>
              <a:t>El retrato de mi egresado</a:t>
            </a: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44d26"/>
                </a:solidFill>
                <a:latin typeface="Georgia"/>
              </a:rPr>
              <a:t>Propósito:</a:t>
            </a:r>
            <a:r>
              <a:rPr b="0" lang="es-MX" sz="2800" spc="-1" strike="noStrike">
                <a:solidFill>
                  <a:srgbClr val="444d26"/>
                </a:solidFill>
                <a:latin typeface="Georgia"/>
              </a:rPr>
              <a:t> En equipo elaborar  una representación (producción)  de los componentes del Perfil de Egreso con base en  con los indicadores o criterios de exigencia previamente definidos presentarlo al colegiado. </a:t>
            </a:r>
            <a:endParaRPr b="0" lang="en-US" sz="2800" spc="-1" strike="noStrike">
              <a:solidFill>
                <a:srgbClr val="444d26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eorgia"/>
              </a:rPr>
              <a:t>El equipo decidirá sobre la técnica a elegir: Collage / Cartel/  Friso / Dramatización. Para representar lo indicado 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</p:txBody>
      </p:sp>
      <p:pic>
        <p:nvPicPr>
          <p:cNvPr id="796" name="Picture 6" descr="SC logo_CIECI_s"/>
          <p:cNvPicPr/>
          <p:nvPr/>
        </p:nvPicPr>
        <p:blipFill>
          <a:blip r:embed="rId1"/>
          <a:stretch/>
        </p:blipFill>
        <p:spPr>
          <a:xfrm>
            <a:off x="6500880" y="0"/>
            <a:ext cx="264312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000000"/>
                </a:solidFill>
                <a:latin typeface="Georgia"/>
              </a:rPr>
              <a:t>Indicadores</a:t>
            </a:r>
            <a:r>
              <a:rPr b="0" lang="es-MX" sz="3100" spc="-1" strike="noStrike">
                <a:solidFill>
                  <a:srgbClr val="000000"/>
                </a:solidFill>
                <a:latin typeface="Georgia"/>
              </a:rPr>
              <a:t>  </a:t>
            </a:r>
            <a:br>
              <a:rPr sz="3100"/>
            </a:b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6836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100" spc="-1" strike="noStrike">
                <a:solidFill>
                  <a:srgbClr val="000000"/>
                </a:solidFill>
                <a:latin typeface="Georgia"/>
              </a:rPr>
              <a:t>De Producto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La producción muestra los componentes del perfil de egreso, las competencias para la vida y los campos formativos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Representa jerarquía entre ellos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Ejemplifica las competencia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El producto muestra creatividad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Presenta con fluidez en su expresión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100" spc="-1" strike="noStrike">
                <a:solidFill>
                  <a:srgbClr val="000000"/>
                </a:solidFill>
                <a:latin typeface="Georgia"/>
              </a:rPr>
              <a:t>De proceso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El Equipo delegó funcione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Revisó literatura, buscó información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Grado de satisfacción al trabajar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Georgia"/>
              </a:rPr>
              <a:t>Criterio de logro: para declarar competencia 7/8</a:t>
            </a: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s-MX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COMPETENTE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Georgia"/>
              </a:rPr>
              <a:t>Retroalimentación del proceso y del producto.</a:t>
            </a: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99" name="Picture 6" descr="SC logo_CIECI_s"/>
          <p:cNvPicPr/>
          <p:nvPr/>
        </p:nvPicPr>
        <p:blipFill>
          <a:blip r:embed="rId1"/>
          <a:stretch/>
        </p:blipFill>
        <p:spPr>
          <a:xfrm>
            <a:off x="6500880" y="0"/>
            <a:ext cx="264312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10"/>
          <p:cNvSpPr/>
          <p:nvPr/>
        </p:nvSpPr>
        <p:spPr>
          <a:xfrm>
            <a:off x="138240" y="3355920"/>
            <a:ext cx="886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2"/>
          <p:cNvSpPr/>
          <p:nvPr/>
        </p:nvSpPr>
        <p:spPr>
          <a:xfrm>
            <a:off x="4482360" y="335592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79280" y="0"/>
          <a:ext cx="8964720" cy="6643800"/>
        </p:xfrm>
        <a:graphic>
          <a:graphicData uri="http://schemas.openxmlformats.org/drawingml/2006/table">
            <a:tbl>
              <a:tblPr/>
              <a:tblGrid>
                <a:gridCol w="4445280"/>
                <a:gridCol w="45194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58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Licenciado en Educación Bás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Licenciado en Ciencias Soc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Maestro en Educación con Intervención en la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Práctica Educativ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Diplomado en Creatividad Aplicada a la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Educ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Diplomado en Educación para la paz y 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diversidad cultu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Diplomado en Estrategias Pedagógicas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desde una visión intercultural de 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edu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Diplomado en Desarrollo de Competencias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para la Educación Media Superior y Sup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Catedrático de la Universidad Pedagógica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Nacional (1999-200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Coordinador Regional de Instituto Pedagógico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de Estudios Superiores del Estado del Jalisc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(IPESUJ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Jefe de Educación del Municipio de Puer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Vallarta, J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Diseñador del plan de estudios de la Maestría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en Educación Emprendedora y del Doctorado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en Competencias Docentes   (IPESUJ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Autor de los libros: “Ambientes Lúdicos 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Aprendizaje”. Trillas 2008, La Educación de las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Nuevas Generaciones. Retos y Alternativas”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Trillas 2010 y ACICATE: Un método para e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desarrollo de la creatividad en los equip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Director de regiones y proyectos especiales e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Centro de Investigación Educativa y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    </a:t>
                      </a: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Capacitación Institucional CIECI, S.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6" name="6 CuadroTexto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f6e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Papyrus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JOSE DE JESUS"/>
          <p:cNvPicPr/>
          <p:nvPr/>
        </p:nvPicPr>
        <p:blipFill>
          <a:blip r:embed="rId1"/>
          <a:stretch/>
        </p:blipFill>
        <p:spPr>
          <a:xfrm>
            <a:off x="7858080" y="0"/>
            <a:ext cx="1071720" cy="1427040"/>
          </a:xfrm>
          <a:prstGeom prst="rect">
            <a:avLst/>
          </a:prstGeom>
          <a:ln w="0">
            <a:noFill/>
          </a:ln>
        </p:spPr>
      </p:pic>
      <p:pic>
        <p:nvPicPr>
          <p:cNvPr id="678" name="4 Imagen" descr="ocde_logo.jpg"/>
          <p:cNvPicPr/>
          <p:nvPr/>
        </p:nvPicPr>
        <p:blipFill>
          <a:blip r:embed="rId2"/>
          <a:stretch/>
        </p:blipFill>
        <p:spPr>
          <a:xfrm>
            <a:off x="0" y="1071720"/>
            <a:ext cx="785880" cy="571320"/>
          </a:xfrm>
          <a:prstGeom prst="rect">
            <a:avLst/>
          </a:prstGeom>
          <a:ln w="0">
            <a:noFill/>
          </a:ln>
        </p:spPr>
      </p:pic>
      <p:pic>
        <p:nvPicPr>
          <p:cNvPr id="679" name="6 Imagen" descr="logo_CIECI_v2.jpg"/>
          <p:cNvPicPr/>
          <p:nvPr/>
        </p:nvPicPr>
        <p:blipFill>
          <a:blip r:embed="rId3"/>
          <a:stretch/>
        </p:blipFill>
        <p:spPr>
          <a:xfrm>
            <a:off x="0" y="0"/>
            <a:ext cx="2714760" cy="988920"/>
          </a:xfrm>
          <a:prstGeom prst="rect">
            <a:avLst/>
          </a:prstGeom>
          <a:ln w="0">
            <a:noFill/>
          </a:ln>
        </p:spPr>
      </p:pic>
      <p:pic>
        <p:nvPicPr>
          <p:cNvPr id="680" name="3 Imagen" descr="sep-400.jpg"/>
          <p:cNvPicPr/>
          <p:nvPr/>
        </p:nvPicPr>
        <p:blipFill>
          <a:blip r:embed="rId4"/>
          <a:stretch/>
        </p:blipFill>
        <p:spPr>
          <a:xfrm>
            <a:off x="1000080" y="1000080"/>
            <a:ext cx="857160" cy="500040"/>
          </a:xfrm>
          <a:prstGeom prst="rect">
            <a:avLst/>
          </a:prstGeom>
          <a:ln w="0">
            <a:noFill/>
          </a:ln>
        </p:spPr>
      </p:pic>
      <p:pic>
        <p:nvPicPr>
          <p:cNvPr id="681" name="1 Imagen" descr="harvard educatin school.bmp"/>
          <p:cNvPicPr/>
          <p:nvPr/>
        </p:nvPicPr>
        <p:blipFill>
          <a:blip r:embed="rId5"/>
          <a:stretch/>
        </p:blipFill>
        <p:spPr>
          <a:xfrm>
            <a:off x="2000160" y="928800"/>
            <a:ext cx="714600" cy="642960"/>
          </a:xfrm>
          <a:prstGeom prst="rect">
            <a:avLst/>
          </a:prstGeom>
          <a:ln w="0">
            <a:noFill/>
          </a:ln>
        </p:spPr>
      </p:pic>
      <p:sp>
        <p:nvSpPr>
          <p:cNvPr id="682" name="11 CuadroTexto"/>
          <p:cNvSpPr/>
          <p:nvPr/>
        </p:nvSpPr>
        <p:spPr>
          <a:xfrm>
            <a:off x="2786040" y="214200"/>
            <a:ext cx="4857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12 CuadroTexto"/>
          <p:cNvSpPr/>
          <p:nvPr/>
        </p:nvSpPr>
        <p:spPr>
          <a:xfrm>
            <a:off x="3000240" y="714240"/>
            <a:ext cx="4429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Papyrus"/>
              </a:rPr>
              <a:t>José  de Jesús Velásquez Nava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2060"/>
                </a:solidFill>
                <a:latin typeface="Papyrus"/>
              </a:rPr>
              <a:t>Director de Regiones y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2060"/>
                </a:solidFill>
                <a:latin typeface="Papyrus"/>
              </a:rPr>
              <a:t>Proyectos  Espe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8e58b6"/>
                </a:solidFill>
                <a:latin typeface="Georgia"/>
              </a:rPr>
              <a:t>Collage o cartel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pic>
        <p:nvPicPr>
          <p:cNvPr id="801" name="Picture 13" descr="collage"/>
          <p:cNvPicPr/>
          <p:nvPr/>
        </p:nvPicPr>
        <p:blipFill>
          <a:blip r:embed="rId1"/>
          <a:stretch/>
        </p:blipFill>
        <p:spPr>
          <a:xfrm>
            <a:off x="6500880" y="357120"/>
            <a:ext cx="2198520" cy="2809800"/>
          </a:xfrm>
          <a:prstGeom prst="rect">
            <a:avLst/>
          </a:prstGeom>
          <a:ln w="0">
            <a:noFill/>
          </a:ln>
        </p:spPr>
      </p:pic>
      <p:pic>
        <p:nvPicPr>
          <p:cNvPr id="802" name="5 Imagen" descr="100_0999.JPG"/>
          <p:cNvPicPr/>
          <p:nvPr/>
        </p:nvPicPr>
        <p:blipFill>
          <a:blip r:embed="rId2"/>
          <a:stretch/>
        </p:blipFill>
        <p:spPr>
          <a:xfrm>
            <a:off x="428760" y="1000080"/>
            <a:ext cx="3346200" cy="2509920"/>
          </a:xfrm>
          <a:prstGeom prst="rect">
            <a:avLst/>
          </a:prstGeom>
          <a:ln w="0">
            <a:noFill/>
          </a:ln>
        </p:spPr>
      </p:pic>
      <p:pic>
        <p:nvPicPr>
          <p:cNvPr id="803" name="6 Imagen" descr="100_0998.JPG"/>
          <p:cNvPicPr/>
          <p:nvPr/>
        </p:nvPicPr>
        <p:blipFill>
          <a:blip r:embed="rId3"/>
          <a:stretch/>
        </p:blipFill>
        <p:spPr>
          <a:xfrm>
            <a:off x="3714840" y="2928960"/>
            <a:ext cx="2786040" cy="37148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6" descr="SC logo_CIECI_s"/>
          <p:cNvPicPr/>
          <p:nvPr/>
        </p:nvPicPr>
        <p:blipFill>
          <a:blip r:embed="rId4"/>
          <a:stretch/>
        </p:blipFill>
        <p:spPr>
          <a:xfrm>
            <a:off x="0" y="5691240"/>
            <a:ext cx="264312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Georgia"/>
              </a:rPr>
              <a:t>Lista de verificación</a:t>
            </a:r>
            <a:endParaRPr b="0" lang="en-US" sz="3400" spc="-1" strike="noStrike">
              <a:solidFill>
                <a:srgbClr val="cba523"/>
              </a:solidFill>
              <a:latin typeface="Georgia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179280" y="907920"/>
          <a:ext cx="8713800" cy="5416560"/>
        </p:xfrm>
        <a:graphic>
          <a:graphicData uri="http://schemas.openxmlformats.org/drawingml/2006/table">
            <a:tbl>
              <a:tblPr/>
              <a:tblGrid>
                <a:gridCol w="5751720"/>
                <a:gridCol w="682560"/>
                <a:gridCol w="528480"/>
                <a:gridCol w="454320"/>
                <a:gridCol w="504720"/>
                <a:gridCol w="358560"/>
                <a:gridCol w="433440"/>
              </a:tblGrid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vel de logro  7/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 producción indica  los componentes del perfil de egreso, competencias para la vida y campos formativo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 diseño muestra jerarquía entre ell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mplifica las competencia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 expresa con fluidez al expon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estra creatividad en el produc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egó funciones y tareas en equip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só literatu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estra satisfacción al trabajar en ese equip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ia lograda o en Proces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</a:tbl>
          </a:graphicData>
        </a:graphic>
      </p:graphicFrame>
      <p:pic>
        <p:nvPicPr>
          <p:cNvPr id="807" name="Picture 6" descr="SC logo_CIECI_s"/>
          <p:cNvPicPr/>
          <p:nvPr/>
        </p:nvPicPr>
        <p:blipFill>
          <a:blip r:embed="rId1"/>
          <a:stretch/>
        </p:blipFill>
        <p:spPr>
          <a:xfrm>
            <a:off x="6500880" y="5977080"/>
            <a:ext cx="264312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99"/>
                </a:solidFill>
                <a:latin typeface="Georgia"/>
              </a:rPr>
              <a:t>¿Qué es la competencia docente?</a:t>
            </a:r>
            <a:endParaRPr b="0" lang="en-US" sz="40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000099"/>
                </a:solidFill>
                <a:latin typeface="Arial Narrow"/>
              </a:rPr>
              <a:t>Frente a una </a:t>
            </a:r>
            <a:r>
              <a:rPr b="1" lang="es-MX" sz="3300" spc="-1" strike="noStrike">
                <a:solidFill>
                  <a:srgbClr val="000099"/>
                </a:solidFill>
                <a:latin typeface="Arial Narrow"/>
              </a:rPr>
              <a:t>necesidad educativa</a:t>
            </a:r>
            <a:r>
              <a:rPr b="0" lang="es-MX" sz="3300" spc="-1" strike="noStrike">
                <a:solidFill>
                  <a:srgbClr val="000099"/>
                </a:solidFill>
                <a:latin typeface="Arial Narrow"/>
              </a:rPr>
              <a:t>, la capacidad del docente  para dar una respuesta integrada (</a:t>
            </a:r>
            <a:r>
              <a:rPr b="1" lang="es-MX" sz="3300" spc="-1" strike="noStrike">
                <a:solidFill>
                  <a:srgbClr val="000099"/>
                </a:solidFill>
                <a:latin typeface="Arial Narrow"/>
              </a:rPr>
              <a:t>conceptual, procedimental y actitudinal </a:t>
            </a:r>
            <a:r>
              <a:rPr b="0" lang="es-MX" sz="3300" spc="-1" strike="noStrike">
                <a:solidFill>
                  <a:srgbClr val="000099"/>
                </a:solidFill>
                <a:latin typeface="Arial Narrow"/>
              </a:rPr>
              <a:t>)  en exhibiciones reales,  llamadas </a:t>
            </a:r>
            <a:r>
              <a:rPr b="1" lang="es-MX" sz="3300" spc="-1" strike="noStrike">
                <a:solidFill>
                  <a:srgbClr val="000099"/>
                </a:solidFill>
                <a:latin typeface="Arial Narrow"/>
              </a:rPr>
              <a:t>desempeños</a:t>
            </a:r>
            <a:r>
              <a:rPr b="0" lang="es-MX" sz="3300" spc="-1" strike="noStrike">
                <a:solidFill>
                  <a:srgbClr val="000099"/>
                </a:solidFill>
                <a:latin typeface="Arial Narrow"/>
              </a:rPr>
              <a:t>,  que la resuelven, en términos de </a:t>
            </a:r>
            <a:r>
              <a:rPr b="1" lang="es-MX" sz="3300" spc="-1" strike="noStrike">
                <a:solidFill>
                  <a:srgbClr val="000099"/>
                </a:solidFill>
                <a:latin typeface="Arial Narrow"/>
              </a:rPr>
              <a:t>criterios</a:t>
            </a:r>
            <a:r>
              <a:rPr b="0" lang="es-MX" sz="3300" spc="-1" strike="noStrike">
                <a:solidFill>
                  <a:srgbClr val="000099"/>
                </a:solidFill>
                <a:latin typeface="Arial Narrow"/>
              </a:rPr>
              <a:t> de calidad previamente definidos  y que se manifiestan a través de </a:t>
            </a:r>
            <a:r>
              <a:rPr b="1" lang="es-MX" sz="3300" spc="-1" strike="noStrike">
                <a:solidFill>
                  <a:srgbClr val="000099"/>
                </a:solidFill>
                <a:latin typeface="Arial Narrow"/>
              </a:rPr>
              <a:t>indicadores</a:t>
            </a:r>
            <a:r>
              <a:rPr b="0" lang="es-MX" sz="3300" spc="-1" strike="noStrike">
                <a:solidFill>
                  <a:srgbClr val="000099"/>
                </a:solidFill>
                <a:latin typeface="Arial Narrow"/>
              </a:rPr>
              <a:t> evaluables.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857160" y="557208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Frola, R.H. (2010) Maestros competentes: Trillas. Ed. México. (en prens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1 CuadroTexto"/>
          <p:cNvSpPr/>
          <p:nvPr/>
        </p:nvSpPr>
        <p:spPr>
          <a:xfrm>
            <a:off x="714240" y="64296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TIV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2 CuadroTexto"/>
          <p:cNvSpPr/>
          <p:nvPr/>
        </p:nvSpPr>
        <p:spPr>
          <a:xfrm>
            <a:off x="642960" y="1503360"/>
            <a:ext cx="80722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 en voz alta cada letra del abecedario y levanta  el brazo correpondiente según el  siguiente códig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 = Brazo izquierdo        D = Brazo derecho      J = Brazos j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         B         C          D         E        F       G       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I   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D             J               D             I           J             I            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         J           K         L         M         N        Ñ     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J            I                 D             I              D             J              I          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12824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99"/>
                </a:solidFill>
                <a:latin typeface="Georgia"/>
              </a:rPr>
              <a:t>Competencias docentes genéricas</a:t>
            </a:r>
            <a:endParaRPr b="0" lang="en-US" sz="34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00240" y="2286000"/>
            <a:ext cx="33991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75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99"/>
                </a:solidFill>
                <a:latin typeface="Georgia"/>
              </a:rPr>
              <a:t>Académic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75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99"/>
                </a:solidFill>
                <a:latin typeface="Georgia"/>
              </a:rPr>
              <a:t>Didáctic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75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99"/>
                </a:solidFill>
                <a:latin typeface="Georgia"/>
              </a:rPr>
              <a:t>Organizativ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75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99"/>
                </a:solidFill>
                <a:latin typeface="Georgia"/>
              </a:rPr>
              <a:t>Comunicativa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75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99"/>
                </a:solidFill>
                <a:latin typeface="Georgia"/>
              </a:rPr>
              <a:t>Integrador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1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a5b592"/>
                </a:solidFill>
                <a:latin typeface="Georgia"/>
              </a:rPr>
              <a:t>Actividad </a:t>
            </a:r>
            <a:endParaRPr b="0" lang="en-US" sz="42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44d26"/>
                </a:solidFill>
                <a:latin typeface="Georgia"/>
              </a:rPr>
              <a:t>DEFINE Y EXPLICA LAS COMPETENCIAS DOCENTES Y DISEÑA UNA ACTIVIDAD EVALUABLE QUE FAVOREZCA CADA UN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44d26"/>
                </a:solidFill>
                <a:latin typeface="Georgia"/>
              </a:rPr>
              <a:t> </a:t>
            </a:r>
            <a:r>
              <a:rPr b="1" lang="es-MX" sz="1600" spc="-1" strike="noStrike">
                <a:solidFill>
                  <a:srgbClr val="444d26"/>
                </a:solidFill>
                <a:latin typeface="Georgia"/>
              </a:rPr>
              <a:t>DE ELLAS EN LOS PARTICIPANT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0" y="1000080"/>
          <a:ext cx="8929800" cy="5119560"/>
        </p:xfrm>
        <a:graphic>
          <a:graphicData uri="http://schemas.openxmlformats.org/drawingml/2006/table">
            <a:tbl>
              <a:tblPr/>
              <a:tblGrid>
                <a:gridCol w="6697800"/>
                <a:gridCol w="744480"/>
                <a:gridCol w="817560"/>
                <a:gridCol w="669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dic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ivel de logro:  6 en MB 4 en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 Participan equitativamente todos los integrant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 Demuestra la competencia asignada en la actividad gru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 Domina técnicas expositivas pertin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.  Respeta tiempos y formas establecidas  (8 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eorgia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esenta información clara y prec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.  Presenta actividad creativa y diná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.   El escrito presenta mínimo  media cuart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. La actividad capta el interés del 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. Argumenta de manera efectiva su conclusió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Se delegan responsabilidades para el trabajo en equip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69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a5b592"/>
                </a:solidFill>
                <a:latin typeface="Georgia"/>
              </a:rPr>
              <a:t>Herramienta de calificación</a:t>
            </a:r>
            <a:endParaRPr b="0" lang="en-US" sz="4200" spc="-1" strike="noStrike">
              <a:solidFill>
                <a:srgbClr val="cba52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15400" cy="4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Georgia"/>
              </a:rPr>
              <a:t>Competencia académica</a:t>
            </a:r>
            <a:endParaRPr b="0" lang="en-US" sz="24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61840" y="1125360"/>
            <a:ext cx="8282160" cy="560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Frente a  una necesidad educativa, el docente muestra dominio de  </a:t>
            </a:r>
            <a:r>
              <a:rPr b="1" lang="es-MX" sz="2300" spc="-1" strike="noStrike">
                <a:solidFill>
                  <a:srgbClr val="000099"/>
                </a:solidFill>
                <a:latin typeface="Arial Narrow"/>
              </a:rPr>
              <a:t>conceptos, procedimientos y actitudes</a:t>
            </a: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 para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Plan de estudios y perfil de egreso 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Campos o áreas curriculares 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Formas de evaluación (cuanti – cuali)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Pedagogía constructivista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Enfoques pedagógicos, educativos diverso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Contenidos programáticos 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Normatividad institucional  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Formación continua, actualización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A través de exhibiciones reales, (</a:t>
            </a:r>
            <a:r>
              <a:rPr b="1" lang="es-MX" sz="2300" spc="-1" strike="noStrike">
                <a:solidFill>
                  <a:srgbClr val="000099"/>
                </a:solidFill>
                <a:latin typeface="Arial Narrow"/>
              </a:rPr>
              <a:t>desempeños</a:t>
            </a: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)  en términos de criterios de calidad previamente definidos llamados </a:t>
            </a:r>
            <a:r>
              <a:rPr b="1" lang="es-MX" sz="2300" spc="-1" strike="noStrike">
                <a:solidFill>
                  <a:srgbClr val="000099"/>
                </a:solidFill>
                <a:latin typeface="Arial Narrow"/>
              </a:rPr>
              <a:t>indicadores, </a:t>
            </a: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evaluable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15400" cy="4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Georgia"/>
              </a:rPr>
              <a:t>Competencia organizativa</a:t>
            </a:r>
            <a:endParaRPr b="0" lang="en-US" sz="24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Frente a  una necesidad educativa, el docente muestra sus </a:t>
            </a:r>
            <a:r>
              <a:rPr b="1" lang="es-MX" sz="2300" spc="-1" strike="noStrike">
                <a:solidFill>
                  <a:srgbClr val="000099"/>
                </a:solidFill>
                <a:latin typeface="Arial Narrow"/>
              </a:rPr>
              <a:t>conceptos, procedimientos y actitudes</a:t>
            </a: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 para: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lnSpc>
                <a:spcPct val="10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99"/>
                </a:solidFill>
                <a:latin typeface="Arial Narrow"/>
              </a:rPr>
              <a:t>Sistematizar de actividades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25600" indent="-261720">
              <a:lnSpc>
                <a:spcPct val="10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99"/>
                </a:solidFill>
                <a:latin typeface="Arial Narrow"/>
              </a:rPr>
              <a:t>Planear colaborativamente un proyecto institucional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25600" indent="-261720">
              <a:lnSpc>
                <a:spcPct val="10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99"/>
                </a:solidFill>
                <a:latin typeface="Arial Narrow"/>
              </a:rPr>
              <a:t>Planear pertinentemente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25600" indent="-261720">
              <a:lnSpc>
                <a:spcPct val="10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99"/>
                </a:solidFill>
                <a:latin typeface="Arial Narrow"/>
              </a:rPr>
              <a:t>Optimizar  tiempos y recursos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25600" indent="-261720">
              <a:lnSpc>
                <a:spcPct val="10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99"/>
                </a:solidFill>
                <a:latin typeface="Arial Narrow"/>
              </a:rPr>
              <a:t>Manejar  agendas y otras formas de organización en tiempos y espacios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25600" indent="-261720">
              <a:lnSpc>
                <a:spcPct val="10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99"/>
                </a:solidFill>
                <a:latin typeface="Arial Narrow"/>
              </a:rPr>
              <a:t>Planear visitas guiadas y participaciones inter - escolares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256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256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A través de exhibiciones reales (</a:t>
            </a:r>
            <a:r>
              <a:rPr b="1" lang="es-MX" sz="2600" spc="-1" strike="noStrike">
                <a:solidFill>
                  <a:srgbClr val="000099"/>
                </a:solidFill>
                <a:latin typeface="Arial Narrow"/>
              </a:rPr>
              <a:t>desempeños</a:t>
            </a: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) en términos de criterios de calidad previamente definidos llamados </a:t>
            </a:r>
            <a:r>
              <a:rPr b="1" lang="es-MX" sz="2600" spc="-1" strike="noStrike">
                <a:solidFill>
                  <a:srgbClr val="000099"/>
                </a:solidFill>
                <a:latin typeface="Arial Narrow"/>
              </a:rPr>
              <a:t>indicadores </a:t>
            </a: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evaluable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256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15400" cy="4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Georgia"/>
              </a:rPr>
              <a:t>Competencia didáctica</a:t>
            </a:r>
            <a:endParaRPr b="0" lang="en-US" sz="24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Frente a  una necesidad educativa, el docente muestra dominio de </a:t>
            </a:r>
            <a:r>
              <a:rPr b="1" lang="es-MX" sz="2300" spc="-1" strike="noStrike">
                <a:solidFill>
                  <a:srgbClr val="000099"/>
                </a:solidFill>
                <a:latin typeface="Arial Narrow"/>
              </a:rPr>
              <a:t>conceptos, procedimientos y actitudes</a:t>
            </a: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 en exhibiciones reales (</a:t>
            </a:r>
            <a:r>
              <a:rPr b="1" lang="es-MX" sz="2300" spc="-1" strike="noStrike">
                <a:solidFill>
                  <a:srgbClr val="000099"/>
                </a:solidFill>
                <a:latin typeface="Arial Narrow"/>
              </a:rPr>
              <a:t>desempeños</a:t>
            </a: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) sobr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Diseño de situaciones de aprendizaje pertinente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Escenarios facilitadore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Materiales y técnicas didáctica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Juegos y técnicas lúdica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Modelos diversificados en el aula.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en términos de criterios de calidad previamente definidos o </a:t>
            </a:r>
            <a:r>
              <a:rPr b="1" lang="es-MX" sz="2300" spc="-1" strike="noStrike">
                <a:solidFill>
                  <a:srgbClr val="000099"/>
                </a:solidFill>
                <a:latin typeface="Arial Narrow"/>
              </a:rPr>
              <a:t>indicadores </a:t>
            </a: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evaluable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a5b592"/>
                </a:solidFill>
                <a:latin typeface="Georgia"/>
              </a:rPr>
              <a:t>Presentación y encuadre</a:t>
            </a:r>
            <a:endParaRPr b="0" lang="en-US" sz="42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44d26"/>
                </a:solidFill>
                <a:latin typeface="Arial Rounded MT Bold"/>
              </a:rPr>
              <a:t>¡BINGO!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44d26"/>
                </a:solidFill>
                <a:latin typeface="Arial Rounded MT Bold"/>
              </a:rPr>
              <a:t>¿DISPUESTO AL CAMBIO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44d26"/>
                </a:solidFill>
                <a:latin typeface="Arial Rounded MT Bold"/>
              </a:rPr>
              <a:t>MIS EXPECTATIVA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3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Georgia"/>
              </a:rPr>
              <a:t>Competencia comunicativa</a:t>
            </a:r>
            <a:endParaRPr b="0" lang="en-US" sz="24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569440" cy="525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Frente a  una necesidad educativa, el docente muestra dominio de </a:t>
            </a:r>
            <a:r>
              <a:rPr b="1" lang="es-MX" sz="2300" spc="-1" strike="noStrike">
                <a:solidFill>
                  <a:srgbClr val="000099"/>
                </a:solidFill>
                <a:latin typeface="Arial Narrow"/>
              </a:rPr>
              <a:t>conceptos, procedimientos y actitudes</a:t>
            </a:r>
            <a:r>
              <a:rPr b="0" lang="es-MX" sz="2300" spc="-1" strike="noStrike">
                <a:solidFill>
                  <a:srgbClr val="000099"/>
                </a:solidFill>
                <a:latin typeface="Arial Narrow"/>
              </a:rPr>
              <a:t> pertinentes para: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Establecer vías para la comunicación grupal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La  expresión en diversos códigos (alfa-numéricos)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La conciliación frente al conflicto 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El seguimiento de instruccione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El evitar las agendas ocultas en la comunidad escolar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Promover el flujo de información 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El enriquecimiento de las competencias comunicativas de sus estudiantes</a:t>
            </a:r>
            <a:r>
              <a:rPr b="0" lang="es-MX" sz="2200" spc="-1" strike="noStrike">
                <a:solidFill>
                  <a:srgbClr val="000099"/>
                </a:solidFill>
                <a:latin typeface="Arial Narrow"/>
              </a:rPr>
              <a:t>. 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A través de sus  desempeños y en términos de criterios de calidad previamente definidos,</a:t>
            </a:r>
            <a:r>
              <a:rPr b="1" lang="es-MX" sz="2600" spc="-1" strike="noStrike">
                <a:solidFill>
                  <a:srgbClr val="000099"/>
                </a:solidFill>
                <a:latin typeface="Arial Narrow"/>
              </a:rPr>
              <a:t> indicadores </a:t>
            </a: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evaluable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3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Georgia"/>
              </a:rPr>
              <a:t>Competencia integradora</a:t>
            </a:r>
            <a:endParaRPr b="0" lang="en-US" sz="20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362800" cy="539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99"/>
                </a:solidFill>
                <a:latin typeface="Arial Narrow"/>
              </a:rPr>
              <a:t>Frente a  una necesidad educativa, el docente muestra dominio de </a:t>
            </a:r>
            <a:r>
              <a:rPr b="1" lang="es-MX" sz="2800" spc="-1" strike="noStrike">
                <a:solidFill>
                  <a:srgbClr val="000099"/>
                </a:solidFill>
                <a:latin typeface="Arial Narrow"/>
              </a:rPr>
              <a:t>conceptos, procedimientos y actitudes</a:t>
            </a:r>
            <a:r>
              <a:rPr b="0" lang="es-MX" sz="2800" spc="-1" strike="noStrike">
                <a:solidFill>
                  <a:srgbClr val="000099"/>
                </a:solidFill>
                <a:latin typeface="Arial Narrow"/>
              </a:rPr>
              <a:t> par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9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Integrar de niños con NEE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19840" indent="-25920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Incluir  y diseñar adecuaciones curriculare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19840" indent="-25920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Atender racionalmente a la diversidad aúlica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19840" indent="-25920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Desarrollar prácticas incluyente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19840" indent="-259200">
              <a:lnSpc>
                <a:spcPct val="100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Atender los principios:  Permanencia, pertenencia, apego escolar y corresponsabilidad (UNESCO)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19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19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A través de sus  desempeños y en términos de criterios de calidad previamente definidos,</a:t>
            </a:r>
            <a:r>
              <a:rPr b="1" lang="es-MX" sz="2600" spc="-1" strike="noStrike">
                <a:solidFill>
                  <a:srgbClr val="000099"/>
                </a:solidFill>
                <a:latin typeface="Arial Narrow"/>
              </a:rPr>
              <a:t> indicadores </a:t>
            </a:r>
            <a:r>
              <a:rPr b="0" lang="es-MX" sz="2600" spc="-1" strike="noStrike">
                <a:solidFill>
                  <a:srgbClr val="000099"/>
                </a:solidFill>
                <a:latin typeface="Arial Narrow"/>
              </a:rPr>
              <a:t>evaluables</a:t>
            </a: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lvl="1" marL="519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4d26"/>
              </a:solidFill>
              <a:latin typeface="Georgia"/>
            </a:endParaRPr>
          </a:p>
          <a:p>
            <a:pPr marL="259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4"/>
          <p:cNvGrpSpPr/>
          <p:nvPr/>
        </p:nvGrpSpPr>
        <p:grpSpPr>
          <a:xfrm>
            <a:off x="250920" y="1197000"/>
            <a:ext cx="7369200" cy="3096720"/>
            <a:chOff x="250920" y="1197000"/>
            <a:chExt cx="7369200" cy="3096720"/>
          </a:xfrm>
        </p:grpSpPr>
        <p:sp>
          <p:nvSpPr>
            <p:cNvPr id="830" name="AutoShape 5"/>
            <p:cNvSpPr/>
            <p:nvPr/>
          </p:nvSpPr>
          <p:spPr>
            <a:xfrm>
              <a:off x="250920" y="1197000"/>
              <a:ext cx="7369200" cy="30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6"/>
            <p:cNvSpPr/>
            <p:nvPr/>
          </p:nvSpPr>
          <p:spPr>
            <a:xfrm>
              <a:off x="250920" y="3002400"/>
              <a:ext cx="1687680" cy="1279440"/>
            </a:xfrm>
            <a:prstGeom prst="rect">
              <a:avLst/>
            </a:prstGeom>
            <a:solidFill>
              <a:srgbClr val="e1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 Narrow"/>
                </a:rPr>
                <a:t>Académic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Text Box 7"/>
            <p:cNvSpPr/>
            <p:nvPr/>
          </p:nvSpPr>
          <p:spPr>
            <a:xfrm>
              <a:off x="2237040" y="1197000"/>
              <a:ext cx="3069360" cy="766080"/>
            </a:xfrm>
            <a:prstGeom prst="rect">
              <a:avLst/>
            </a:prstGeom>
            <a:solidFill>
              <a:srgbClr val="a7c4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Arial Narrow"/>
                </a:rPr>
                <a:t>Competencias Docentes Genérica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 Box 8"/>
            <p:cNvSpPr/>
            <p:nvPr/>
          </p:nvSpPr>
          <p:spPr>
            <a:xfrm>
              <a:off x="2090880" y="3002400"/>
              <a:ext cx="1687320" cy="1279440"/>
            </a:xfrm>
            <a:prstGeom prst="rect">
              <a:avLst/>
            </a:prstGeom>
            <a:solidFill>
              <a:srgbClr val="ffdd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9"/>
            <p:cNvSpPr/>
            <p:nvPr/>
          </p:nvSpPr>
          <p:spPr>
            <a:xfrm>
              <a:off x="4085280" y="3002400"/>
              <a:ext cx="1688400" cy="1279440"/>
            </a:xfrm>
            <a:prstGeom prst="rect">
              <a:avLst/>
            </a:prstGeom>
            <a:solidFill>
              <a:srgbClr val="b0c8b2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Organiz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10"/>
            <p:cNvSpPr/>
            <p:nvPr/>
          </p:nvSpPr>
          <p:spPr>
            <a:xfrm>
              <a:off x="5925240" y="3002400"/>
              <a:ext cx="1687680" cy="1291320"/>
            </a:xfrm>
            <a:prstGeom prst="rect">
              <a:avLst/>
            </a:prstGeom>
            <a:solidFill>
              <a:srgbClr val="2fffff"/>
            </a:solidFill>
            <a:ln w="9360">
              <a:solidFill>
                <a:srgbClr val="444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11"/>
            <p:cNvSpPr/>
            <p:nvPr/>
          </p:nvSpPr>
          <p:spPr>
            <a:xfrm>
              <a:off x="1018080" y="1722600"/>
              <a:ext cx="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12"/>
            <p:cNvSpPr/>
            <p:nvPr/>
          </p:nvSpPr>
          <p:spPr>
            <a:xfrm>
              <a:off x="2704680" y="2234520"/>
              <a:ext cx="720" cy="76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13"/>
            <p:cNvSpPr/>
            <p:nvPr/>
          </p:nvSpPr>
          <p:spPr>
            <a:xfrm>
              <a:off x="4544640" y="2234520"/>
              <a:ext cx="0" cy="76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14"/>
            <p:cNvSpPr/>
            <p:nvPr/>
          </p:nvSpPr>
          <p:spPr>
            <a:xfrm>
              <a:off x="6539040" y="1722600"/>
              <a:ext cx="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15"/>
            <p:cNvSpPr/>
            <p:nvPr/>
          </p:nvSpPr>
          <p:spPr>
            <a:xfrm>
              <a:off x="1018080" y="1722600"/>
              <a:ext cx="107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16"/>
            <p:cNvSpPr/>
            <p:nvPr/>
          </p:nvSpPr>
          <p:spPr>
            <a:xfrm>
              <a:off x="5305320" y="1708560"/>
              <a:ext cx="123336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Text Box 19"/>
          <p:cNvSpPr/>
          <p:nvPr/>
        </p:nvSpPr>
        <p:spPr>
          <a:xfrm>
            <a:off x="7596360" y="2276640"/>
            <a:ext cx="122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20"/>
          <p:cNvSpPr/>
          <p:nvPr/>
        </p:nvSpPr>
        <p:spPr>
          <a:xfrm>
            <a:off x="7704000" y="3068640"/>
            <a:ext cx="1440000" cy="1224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tegr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2"/>
          <p:cNvSpPr/>
          <p:nvPr/>
        </p:nvSpPr>
        <p:spPr>
          <a:xfrm>
            <a:off x="2197800" y="29973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3"/>
          <p:cNvSpPr/>
          <p:nvPr/>
        </p:nvSpPr>
        <p:spPr>
          <a:xfrm>
            <a:off x="5867280" y="299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munic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25"/>
          <p:cNvSpPr/>
          <p:nvPr/>
        </p:nvSpPr>
        <p:spPr>
          <a:xfrm>
            <a:off x="8028000" y="1484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26"/>
          <p:cNvSpPr/>
          <p:nvPr/>
        </p:nvSpPr>
        <p:spPr>
          <a:xfrm>
            <a:off x="5364000" y="14842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27"/>
          <p:cNvSpPr/>
          <p:nvPr/>
        </p:nvSpPr>
        <p:spPr>
          <a:xfrm>
            <a:off x="205092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ctividad:  ¿Dónde la pone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15400" cy="4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Georgia"/>
              </a:rPr>
              <a:t>10 competencias docentes específicas</a:t>
            </a:r>
            <a:endParaRPr b="0" lang="en-US" sz="24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400" y="155700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Planear y organizar el proceso de enseñanza-aprendizaj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Acompañar y  propiciar andamiajes al alumno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Comunicar y expresar asertivament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Utilizar nuevas tecnologías de la información y de la comunicació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Evaluar los procesos de aprendizaj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Desarrollar  formas de actualización y profesionalización continua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Resolver situaciones y problemas con base en valores éticos de la profesió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Trabajar con y por las necesidades educativas especiale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Ampliar los procedimientos de intervención pedagógica  en el aul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Generar pertenencia, permanencia, apego escolar así como corresponsabilidad institucional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15400" cy="4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Georgia"/>
              </a:rPr>
              <a:t>Ejercicio</a:t>
            </a:r>
            <a:endParaRPr b="0" lang="en-US" sz="24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eorgia"/>
              </a:rPr>
              <a:t>En escala estimativa de 1 a 5 cuanto asigna Usted a cada atribución docente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Planear y organizar el proceso de enseñanza-aprendizaje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Acompañar y propiciar andamiajes al alumno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Comunicar y expresar asertivamente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Utilizar nuevas tecnologías de la información y de la comunicación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Evaluar cualitativa y/o cuantitativamente el  aprendizaje del niño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Desarrollar  formas de actualización y profesionalización continuas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Resolver situaciones y problemas con base en valores éticos de la profesión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Trabajar con y por las necesidades educativas especiales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Ampliar los repertorios de intervención pedagógica 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eorgia"/>
              </a:rPr>
              <a:t>____Generar apegos positivos, pertenencia y permanencia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1 CuadroTexto"/>
          <p:cNvSpPr/>
          <p:nvPr/>
        </p:nvSpPr>
        <p:spPr>
          <a:xfrm>
            <a:off x="1000080" y="42876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TIV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2 CuadroTexto"/>
          <p:cNvSpPr/>
          <p:nvPr/>
        </p:nvSpPr>
        <p:spPr>
          <a:xfrm>
            <a:off x="285840" y="1285920"/>
            <a:ext cx="8429400" cy="78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ING PONG 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ócate frente a un compañ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n a ir diciendo los números del 1 al 3 de manera alternada tratando de no equivocarse, al llegar al 3 se regresan al uno, y así suces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ien logre obtener tres puntos es el venc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  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        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                 2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4 Conector recto"/>
          <p:cNvSpPr/>
          <p:nvPr/>
        </p:nvSpPr>
        <p:spPr>
          <a:xfrm flipH="1">
            <a:off x="3998520" y="3859200"/>
            <a:ext cx="1800" cy="2214720"/>
          </a:xfrm>
          <a:prstGeom prst="line">
            <a:avLst/>
          </a:prstGeom>
          <a:ln w="7308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 rot="20965200">
            <a:off x="229680" y="3654000"/>
            <a:ext cx="8231400" cy="11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444d26"/>
                </a:solidFill>
                <a:latin typeface="Bradley Hand ITC"/>
              </a:rPr>
              <a:t>DISEÑA UN FORMATO DE PLANEACIÓN COLEGIADO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18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a5b592"/>
                </a:solidFill>
                <a:latin typeface="Georgia"/>
              </a:rPr>
              <a:t>Planeación desde un enfoque por competencias </a:t>
            </a:r>
            <a:endParaRPr b="0" lang="en-US" sz="4200" spc="-1" strike="noStrike">
              <a:solidFill>
                <a:srgbClr val="cba523"/>
              </a:solidFill>
              <a:latin typeface="Georgia"/>
            </a:endParaRPr>
          </a:p>
        </p:txBody>
      </p:sp>
      <p:pic>
        <p:nvPicPr>
          <p:cNvPr id="858" name="Picture 6" descr="SC logo_CIECI_s"/>
          <p:cNvPicPr/>
          <p:nvPr/>
        </p:nvPicPr>
        <p:blipFill>
          <a:blip r:embed="rId1"/>
          <a:stretch/>
        </p:blipFill>
        <p:spPr>
          <a:xfrm>
            <a:off x="0" y="5691240"/>
            <a:ext cx="264312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cba523"/>
                </a:solidFill>
                <a:latin typeface="Georgia"/>
              </a:rPr>
              <a:t>El diseño de la situación didáctica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647640">
              <a:lnSpc>
                <a:spcPct val="10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44d26"/>
                </a:solidFill>
                <a:latin typeface="Garamond"/>
              </a:rPr>
              <a:t>¿</a:t>
            </a:r>
            <a:r>
              <a:rPr b="1" lang="es-ES" sz="3200" spc="-1" strike="noStrike">
                <a:solidFill>
                  <a:srgbClr val="444d26"/>
                </a:solidFill>
                <a:latin typeface="Arial Narrow"/>
              </a:rPr>
              <a:t>Qué es Planeación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47640" indent="-647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44d26"/>
                </a:solidFill>
                <a:latin typeface="Arial Narrow"/>
              </a:rPr>
              <a:t>La sistematización de acciones y recursos que van a permitir el desplazamiento de una situación real a una situación esperada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69960" indent="-198360">
              <a:lnSpc>
                <a:spcPct val="10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44d26"/>
                </a:solidFill>
                <a:latin typeface="Arial Narrow"/>
              </a:rPr>
              <a:t> </a:t>
            </a:r>
            <a:r>
              <a:rPr b="1" lang="es-ES" sz="2200" spc="-1" strike="noStrike">
                <a:solidFill>
                  <a:srgbClr val="444d26"/>
                </a:solidFill>
                <a:latin typeface="Arial Narrow"/>
              </a:rPr>
              <a:t>Planeación educativa</a:t>
            </a:r>
            <a:r>
              <a:rPr b="0" lang="es-ES" sz="2200" spc="-1" strike="noStrike">
                <a:solidFill>
                  <a:srgbClr val="444d26"/>
                </a:solidFill>
                <a:latin typeface="Arial Narrow"/>
              </a:rPr>
              <a:t>: institucional y estratégica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10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44d26"/>
                </a:solidFill>
                <a:latin typeface="Arial Narrow"/>
              </a:rPr>
              <a:t> </a:t>
            </a:r>
            <a:r>
              <a:rPr b="1" lang="es-ES" sz="2200" spc="-1" strike="noStrike">
                <a:solidFill>
                  <a:srgbClr val="444d26"/>
                </a:solidFill>
                <a:latin typeface="Arial Narrow"/>
              </a:rPr>
              <a:t>Planeación de la enseñanza</a:t>
            </a:r>
            <a:r>
              <a:rPr b="0" lang="es-ES" sz="2200" spc="-1" strike="noStrike">
                <a:solidFill>
                  <a:srgbClr val="444d26"/>
                </a:solidFill>
                <a:latin typeface="Arial Narrow"/>
              </a:rPr>
              <a:t>: sistematización del proceso, dosificación de contenidos en unidades de tiempo con base en el programa y su perfil de egreso.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10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44d26"/>
                </a:solidFill>
                <a:latin typeface="Arial Narrow"/>
              </a:rPr>
              <a:t> </a:t>
            </a:r>
            <a:r>
              <a:rPr b="1" lang="es-ES" sz="2200" spc="-1" strike="noStrike">
                <a:solidFill>
                  <a:srgbClr val="444d26"/>
                </a:solidFill>
                <a:latin typeface="Arial Narrow"/>
              </a:rPr>
              <a:t>Diseño de situaciones didácticas: </a:t>
            </a:r>
            <a:r>
              <a:rPr b="0" lang="es-ES" sz="2200" spc="-1" strike="noStrike">
                <a:solidFill>
                  <a:srgbClr val="444d26"/>
                </a:solidFill>
                <a:latin typeface="Arial Narrow"/>
              </a:rPr>
              <a:t> bajo el modelo por competencias, generadoras de necesidades, que den cuenta de desempeños, con niveles de exigencia evaluables. (indicadores) 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</p:txBody>
      </p:sp>
      <p:pic>
        <p:nvPicPr>
          <p:cNvPr id="861" name="Picture 6" descr="SC logo_CIECI_s"/>
          <p:cNvPicPr/>
          <p:nvPr/>
        </p:nvPicPr>
        <p:blipFill>
          <a:blip r:embed="rId1"/>
          <a:stretch/>
        </p:blipFill>
        <p:spPr>
          <a:xfrm>
            <a:off x="0" y="5691240"/>
            <a:ext cx="264312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5320" y="530280"/>
            <a:ext cx="7942320" cy="6732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cba523"/>
                </a:solidFill>
                <a:latin typeface="Century Gothic"/>
              </a:rPr>
              <a:t>Planeación y diseño de situaciones didácticas</a:t>
            </a:r>
            <a:endParaRPr b="0" lang="en-US" sz="25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4" name="Oval 4"/>
          <p:cNvSpPr/>
          <p:nvPr/>
        </p:nvSpPr>
        <p:spPr>
          <a:xfrm>
            <a:off x="3419640" y="2852640"/>
            <a:ext cx="1809720" cy="817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5"/>
          <p:cNvSpPr/>
          <p:nvPr/>
        </p:nvSpPr>
        <p:spPr>
          <a:xfrm>
            <a:off x="1187280" y="2852640"/>
            <a:ext cx="1689120" cy="746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s-ES" sz="11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r </a:t>
            </a: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nece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6"/>
          <p:cNvSpPr/>
          <p:nvPr/>
        </p:nvSpPr>
        <p:spPr>
          <a:xfrm>
            <a:off x="5364000" y="2781360"/>
            <a:ext cx="1729080" cy="1079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 criterios de exigencia o </a:t>
            </a: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dic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7"/>
          <p:cNvSpPr/>
          <p:nvPr/>
        </p:nvSpPr>
        <p:spPr>
          <a:xfrm>
            <a:off x="4211640" y="2421000"/>
            <a:ext cx="14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8"/>
          <p:cNvSpPr/>
          <p:nvPr/>
        </p:nvSpPr>
        <p:spPr>
          <a:xfrm>
            <a:off x="2050920" y="371628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9"/>
          <p:cNvSpPr/>
          <p:nvPr/>
        </p:nvSpPr>
        <p:spPr>
          <a:xfrm>
            <a:off x="4211640" y="3860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0"/>
          <p:cNvSpPr/>
          <p:nvPr/>
        </p:nvSpPr>
        <p:spPr>
          <a:xfrm>
            <a:off x="6516720" y="3860640"/>
            <a:ext cx="571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11"/>
          <p:cNvSpPr/>
          <p:nvPr/>
        </p:nvSpPr>
        <p:spPr>
          <a:xfrm flipV="1">
            <a:off x="5003640" y="3860280"/>
            <a:ext cx="64152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12"/>
          <p:cNvSpPr/>
          <p:nvPr/>
        </p:nvSpPr>
        <p:spPr>
          <a:xfrm flipH="1">
            <a:off x="2843280" y="2565360"/>
            <a:ext cx="38736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13"/>
          <p:cNvSpPr/>
          <p:nvPr/>
        </p:nvSpPr>
        <p:spPr>
          <a:xfrm>
            <a:off x="5148360" y="2565360"/>
            <a:ext cx="41256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14"/>
          <p:cNvSpPr/>
          <p:nvPr/>
        </p:nvSpPr>
        <p:spPr>
          <a:xfrm>
            <a:off x="1547640" y="4365720"/>
            <a:ext cx="151164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15"/>
          <p:cNvSpPr/>
          <p:nvPr/>
        </p:nvSpPr>
        <p:spPr>
          <a:xfrm>
            <a:off x="3276720" y="4653000"/>
            <a:ext cx="1800000" cy="10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16"/>
          <p:cNvSpPr/>
          <p:nvPr/>
        </p:nvSpPr>
        <p:spPr>
          <a:xfrm>
            <a:off x="6659640" y="4292640"/>
            <a:ext cx="1441440" cy="954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valu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7"/>
          <p:cNvSpPr/>
          <p:nvPr/>
        </p:nvSpPr>
        <p:spPr>
          <a:xfrm flipV="1">
            <a:off x="2987640" y="3860280"/>
            <a:ext cx="720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8"/>
          <p:cNvSpPr/>
          <p:nvPr/>
        </p:nvSpPr>
        <p:spPr>
          <a:xfrm>
            <a:off x="4211640" y="98100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19"/>
          <p:cNvSpPr/>
          <p:nvPr/>
        </p:nvSpPr>
        <p:spPr>
          <a:xfrm>
            <a:off x="3348000" y="1557360"/>
            <a:ext cx="1873440" cy="863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 Narrow"/>
                <a:ea typeface="Times New Roman"/>
              </a:rPr>
              <a:t>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20"/>
          <p:cNvSpPr/>
          <p:nvPr/>
        </p:nvSpPr>
        <p:spPr>
          <a:xfrm>
            <a:off x="1719360" y="145080"/>
            <a:ext cx="215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Fig. 2 El proceso genérico de evaluación </a:t>
            </a:r>
            <a:r>
              <a:rPr b="0" lang="es-MX" sz="1000" spc="-1" strike="noStrike" baseline="30000">
                <a:solidFill>
                  <a:srgbClr val="333399"/>
                </a:solidFill>
                <a:latin typeface="Arial Narrow"/>
                <a:ea typeface="Times New Roman"/>
              </a:rPr>
              <a:t>[1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21"/>
          <p:cNvSpPr/>
          <p:nvPr/>
        </p:nvSpPr>
        <p:spPr>
          <a:xfrm>
            <a:off x="1693800" y="6188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22"/>
          <p:cNvSpPr/>
          <p:nvPr/>
        </p:nvSpPr>
        <p:spPr>
          <a:xfrm>
            <a:off x="3492360" y="4021920"/>
            <a:ext cx="15112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Concep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Procedimi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Actitudes </a:t>
            </a: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en 1 sola exhibi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23"/>
          <p:cNvSpPr/>
          <p:nvPr/>
        </p:nvSpPr>
        <p:spPr>
          <a:xfrm>
            <a:off x="1716120" y="37242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24"/>
          <p:cNvSpPr/>
          <p:nvPr/>
        </p:nvSpPr>
        <p:spPr>
          <a:xfrm>
            <a:off x="1619280" y="3932640"/>
            <a:ext cx="14810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ue activa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25"/>
          <p:cNvSpPr/>
          <p:nvPr/>
        </p:nvSpPr>
        <p:spPr>
          <a:xfrm>
            <a:off x="1716120" y="536940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26"/>
          <p:cNvSpPr/>
          <p:nvPr/>
        </p:nvSpPr>
        <p:spPr>
          <a:xfrm>
            <a:off x="1714680" y="5827680"/>
            <a:ext cx="301752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27"/>
          <p:cNvSpPr/>
          <p:nvPr/>
        </p:nvSpPr>
        <p:spPr>
          <a:xfrm>
            <a:off x="1913760" y="5835240"/>
            <a:ext cx="3716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 baseline="30000">
                <a:solidFill>
                  <a:srgbClr val="000000"/>
                </a:solidFill>
                <a:latin typeface="Arial Narrow"/>
                <a:ea typeface="Times New Roman"/>
              </a:rPr>
              <a:t>[1]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</a:t>
            </a:r>
            <a:r>
              <a:rPr b="0" lang="es-ES" sz="1100" spc="-1" strike="noStrike" baseline="30000">
                <a:solidFill>
                  <a:srgbClr val="333399"/>
                </a:solidFill>
                <a:latin typeface="Arial Narrow"/>
                <a:ea typeface="Times New Roman"/>
              </a:rPr>
              <a:t> Stufflebeam, D.L. y Shinkfield, A.J. (1993). Evaluación Sistemática. Guía teórica y    práctica. Paídos-Madrid. ME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29"/>
          <p:cNvSpPr/>
          <p:nvPr/>
        </p:nvSpPr>
        <p:spPr>
          <a:xfrm>
            <a:off x="3635280" y="2328480"/>
            <a:ext cx="151128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Desempeños, que integran a 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30"/>
          <p:cNvSpPr/>
          <p:nvPr/>
        </p:nvSpPr>
        <p:spPr>
          <a:xfrm>
            <a:off x="3276720" y="6453360"/>
            <a:ext cx="2663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cba523"/>
                </a:solidFill>
                <a:latin typeface="Georgia"/>
              </a:rPr>
              <a:t>El formato  de planeación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213840" y="1142640"/>
            <a:ext cx="867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Datos generales de la Institució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Competencia del Perfil de Egreso que se trabajará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Competencia disciplinar a evidencia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spcBef>
                <a:spcPts val="400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Segmento curricular </a:t>
            </a:r>
            <a:r>
              <a:rPr b="0" lang="es-MX" sz="1600" spc="-1" strike="noStrike">
                <a:solidFill>
                  <a:srgbClr val="444d26"/>
                </a:solidFill>
                <a:latin typeface="Georgia"/>
              </a:rPr>
              <a:t>(Unidad, tema subtema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spcBef>
                <a:spcPts val="42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Actividad </a:t>
            </a:r>
            <a:r>
              <a:rPr b="0" lang="es-MX" sz="1700" spc="-1" strike="noStrike">
                <a:solidFill>
                  <a:srgbClr val="444d26"/>
                </a:solidFill>
                <a:latin typeface="Georgia"/>
              </a:rPr>
              <a:t>(Nombre atractivo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839880" indent="-495360">
              <a:spcBef>
                <a:spcPts val="45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44d26"/>
                </a:solidFill>
                <a:latin typeface="Georgia"/>
              </a:rPr>
              <a:t>Propósito de la actividad </a:t>
            </a:r>
            <a:r>
              <a:rPr b="0" lang="es-MX" sz="1800" spc="-1" strike="noStrike">
                <a:solidFill>
                  <a:srgbClr val="444d26"/>
                </a:solidFill>
                <a:latin typeface="Georgia"/>
              </a:rPr>
              <a:t>(relacionado con la competencia y el contenido)</a:t>
            </a:r>
            <a:endParaRPr b="0" lang="en-US" sz="1800" spc="-1" strike="noStrike">
              <a:solidFill>
                <a:srgbClr val="444d26"/>
              </a:solidFill>
              <a:latin typeface="Georgia"/>
            </a:endParaRPr>
          </a:p>
          <a:p>
            <a:pPr lvl="1" marL="839880" indent="-495360"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44d26"/>
                </a:solidFill>
                <a:latin typeface="Georgia"/>
              </a:rPr>
              <a:t>Procedimiento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2" marL="1090440" indent="-419040">
              <a:spcBef>
                <a:spcPts val="524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44d26"/>
                </a:solidFill>
                <a:latin typeface="Georgia"/>
              </a:rPr>
              <a:t>Inicio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1090440" indent="-419040">
              <a:spcBef>
                <a:spcPts val="524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44d26"/>
                </a:solidFill>
                <a:latin typeface="Georgia"/>
              </a:rPr>
              <a:t>Desarrollo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1090440" indent="-419040">
              <a:spcBef>
                <a:spcPts val="524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44d26"/>
                </a:solidFill>
                <a:latin typeface="Georgia"/>
              </a:rPr>
              <a:t>Cierre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92" name="Picture 6" descr="SC logo_CIECI_s"/>
          <p:cNvPicPr/>
          <p:nvPr/>
        </p:nvPicPr>
        <p:blipFill>
          <a:blip r:embed="rId1"/>
          <a:stretch/>
        </p:blipFill>
        <p:spPr>
          <a:xfrm>
            <a:off x="6500880" y="5572080"/>
            <a:ext cx="2643120" cy="8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6" name=""/>
          <p:cNvGraphicFramePr/>
          <p:nvPr/>
        </p:nvGraphicFramePr>
        <p:xfrm>
          <a:off x="250920" y="1413000"/>
          <a:ext cx="8640720" cy="4968720"/>
        </p:xfrm>
        <a:graphic>
          <a:graphicData uri="http://schemas.openxmlformats.org/drawingml/2006/table">
            <a:tbl>
              <a:tblPr/>
              <a:tblGrid>
                <a:gridCol w="2879640"/>
                <a:gridCol w="2881440"/>
                <a:gridCol w="2879640"/>
              </a:tblGrid>
              <a:tr h="19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omina metodología de la evaluación cuali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a cursado uno o más diplom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s una persona muy soc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4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iene dos hij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s soltera (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noce y aplica el enfoque por competenc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iene estudios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osg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s menor de 3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s abierto frente a los cambios e innov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</a:tbl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ba523"/>
                </a:solidFill>
                <a:latin typeface="Georgia"/>
              </a:rPr>
              <a:t>! BINGO!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cba523"/>
                </a:solidFill>
                <a:latin typeface="Georgia"/>
              </a:rPr>
              <a:t>Continuación</a:t>
            </a:r>
            <a:r>
              <a:rPr b="0" lang="es-MX" sz="3300" spc="-1" strike="noStrike">
                <a:solidFill>
                  <a:srgbClr val="cba523"/>
                </a:solidFill>
                <a:latin typeface="Georgia"/>
              </a:rPr>
              <a:t> Formato de Planeación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2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Forma de evaluación </a:t>
            </a:r>
            <a:r>
              <a:rPr b="0" lang="es-MX" sz="1700" spc="-1" strike="noStrike">
                <a:solidFill>
                  <a:srgbClr val="000000"/>
                </a:solidFill>
                <a:latin typeface="Georgia"/>
              </a:rPr>
              <a:t>(ensayo, mapa conceptual, debate, dramatización , caso, solución de problemas, exposición oral, friso, cartel, portafolio, diario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Indicadores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44d26"/>
                </a:solidFill>
                <a:latin typeface="Georgia"/>
              </a:rPr>
              <a:t>De producto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44d26"/>
                </a:solidFill>
                <a:latin typeface="Georgia"/>
              </a:rPr>
              <a:t>De proceso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Herramienta de calificación </a:t>
            </a:r>
            <a:r>
              <a:rPr b="0" lang="es-MX" sz="1700" spc="-1" strike="noStrike">
                <a:solidFill>
                  <a:srgbClr val="000000"/>
                </a:solidFill>
                <a:latin typeface="Georgia"/>
              </a:rPr>
              <a:t>(lista de verificación, escala estimativa, rúbrica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Nivel de logro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</p:txBody>
      </p:sp>
      <p:pic>
        <p:nvPicPr>
          <p:cNvPr id="895" name="Picture 6" descr="SC logo_CIECI_s"/>
          <p:cNvPicPr/>
          <p:nvPr/>
        </p:nvPicPr>
        <p:blipFill>
          <a:blip r:embed="rId1"/>
          <a:stretch/>
        </p:blipFill>
        <p:spPr>
          <a:xfrm>
            <a:off x="0" y="5691240"/>
            <a:ext cx="264312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cba523"/>
                </a:solidFill>
                <a:latin typeface="Georgia"/>
              </a:rPr>
              <a:t>Lista de verificación</a:t>
            </a:r>
            <a:endParaRPr b="0" lang="en-US" sz="3400" spc="-1" strike="noStrike">
              <a:solidFill>
                <a:srgbClr val="cba523"/>
              </a:solidFill>
              <a:latin typeface="Georgia"/>
            </a:endParaRPr>
          </a:p>
        </p:txBody>
      </p:sp>
      <p:graphicFrame>
        <p:nvGraphicFramePr>
          <p:cNvPr id="897" name=""/>
          <p:cNvGraphicFramePr/>
          <p:nvPr/>
        </p:nvGraphicFramePr>
        <p:xfrm>
          <a:off x="0" y="1197000"/>
          <a:ext cx="8893080" cy="5456160"/>
        </p:xfrm>
        <a:graphic>
          <a:graphicData uri="http://schemas.openxmlformats.org/drawingml/2006/table">
            <a:tbl>
              <a:tblPr/>
              <a:tblGrid>
                <a:gridCol w="5867280"/>
                <a:gridCol w="576360"/>
                <a:gridCol w="541440"/>
                <a:gridCol w="504720"/>
                <a:gridCol w="503280"/>
                <a:gridCol w="504720"/>
                <a:gridCol w="39528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vel de logro  14 de 16  obligadas  8  y 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Entrega en tiempo y forma su formato  19: hrs ho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El formato inicia con datos genera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Indica la competencia genérica a trabaj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Indica competencia disciplin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Señala segmento temátic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 La actividad tiene nombre atractiv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Describe el propósito de la activid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 Indica procedimiento (inicio-desarrollo-cierre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 Elige forma de evaluació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 Diseña indicadores (de producto y de proceso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 Diseña herramienta de calificación (lista de verificación, rúbrica, escala estimativ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cba523"/>
                </a:solidFill>
                <a:latin typeface="Georgia"/>
              </a:rPr>
              <a:t>Lista de verificación</a:t>
            </a:r>
            <a:endParaRPr b="0" lang="en-US" sz="3400" spc="-1" strike="noStrike">
              <a:solidFill>
                <a:srgbClr val="cba523"/>
              </a:solidFill>
              <a:latin typeface="Georgia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250920" y="907920"/>
          <a:ext cx="8713800" cy="5432400"/>
        </p:xfrm>
        <a:graphic>
          <a:graphicData uri="http://schemas.openxmlformats.org/drawingml/2006/table">
            <a:tbl>
              <a:tblPr/>
              <a:tblGrid>
                <a:gridCol w="5856120"/>
                <a:gridCol w="495360"/>
                <a:gridCol w="492120"/>
                <a:gridCol w="423720"/>
                <a:gridCol w="424080"/>
                <a:gridCol w="423720"/>
                <a:gridCol w="59868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vel de logro  14/ 16 obligadas  8 y 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7c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Aporta ideas y soluciones a la tare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 Delega funcion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.Revisa documentos curricula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 Muestra satisfacción frente al producto fin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. Cumple su función dentro del equip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Bradley Hand ITC"/>
              </a:rPr>
              <a:t>DISEÑA INSTRUMENTOS CUALITATIVOS Y HERRAMIENTAS DE CALIFICACIÓN CORRESPONDIENT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18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a5b592"/>
                </a:solidFill>
                <a:latin typeface="Georgia"/>
              </a:rPr>
              <a:t>La evaluación de las competencias</a:t>
            </a:r>
            <a:endParaRPr b="0" lang="en-US" sz="4200" spc="-1" strike="noStrike">
              <a:solidFill>
                <a:srgbClr val="cba52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555640" y="333360"/>
            <a:ext cx="52671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a5b592"/>
                </a:solidFill>
                <a:latin typeface="Georgia"/>
              </a:rPr>
              <a:t>Tema3 Evaluación</a:t>
            </a:r>
            <a:br>
              <a:rPr sz="2500"/>
            </a:br>
            <a:r>
              <a:rPr b="0" lang="es-MX" sz="1900" spc="-1" strike="noStrike">
                <a:solidFill>
                  <a:srgbClr val="a5b592"/>
                </a:solidFill>
                <a:latin typeface="Georgia"/>
              </a:rPr>
              <a:t>Metodología para diseño de instrumentos cualitativos</a:t>
            </a:r>
            <a:endParaRPr b="0" lang="en-US" sz="19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95280" y="1428480"/>
            <a:ext cx="810576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64764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1. ¿Qué es evaluación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44d26"/>
                </a:solidFill>
                <a:latin typeface="Garamond"/>
              </a:rPr>
              <a:t>Evaluación educativa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44d26"/>
                </a:solidFill>
                <a:latin typeface="Garamond"/>
              </a:rPr>
              <a:t>Evaluación del aprendizaje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44d26"/>
                </a:solidFill>
                <a:latin typeface="Garamond"/>
              </a:rPr>
              <a:t>Evaluación de las competencias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marL="647640" indent="-64764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2. Fases del proceso evaluativo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44d26"/>
                </a:solidFill>
                <a:latin typeface="Garamond"/>
              </a:rPr>
              <a:t>Planeación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44d26"/>
                </a:solidFill>
                <a:latin typeface="Garamond"/>
              </a:rPr>
              <a:t>Definición de la competencia a evidenciar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44d26"/>
                </a:solidFill>
                <a:latin typeface="Garamond"/>
              </a:rPr>
              <a:t>Diseño del instrumento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44d26"/>
                </a:solidFill>
                <a:latin typeface="Garamond"/>
              </a:rPr>
              <a:t>Definición de los indicadores 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44d26"/>
                </a:solidFill>
                <a:latin typeface="Garamond"/>
              </a:rPr>
              <a:t>Administración del instrumento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44d26"/>
                </a:solidFill>
                <a:latin typeface="Garamond"/>
              </a:rPr>
              <a:t>Herramienta de Calificación 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44d26"/>
                </a:solidFill>
                <a:latin typeface="Garamond"/>
              </a:rPr>
              <a:t>Uso de los resultados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  <a:p>
            <a:pPr lvl="1" marL="669960" indent="-198360">
              <a:lnSpc>
                <a:spcPct val="90000"/>
              </a:lnSpc>
              <a:spcBef>
                <a:spcPts val="55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44d26"/>
                </a:solidFill>
                <a:latin typeface="Garamond"/>
              </a:rPr>
              <a:t>Acompañamiento en el proceso de mejora</a:t>
            </a:r>
            <a:endParaRPr b="0" lang="en-US" sz="2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427640" y="1628640"/>
            <a:ext cx="4254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05" name="Picture 5" descr="estudiantes"/>
          <p:cNvPicPr/>
          <p:nvPr/>
        </p:nvPicPr>
        <p:blipFill>
          <a:blip r:embed="rId1"/>
          <a:stretch/>
        </p:blipFill>
        <p:spPr>
          <a:xfrm>
            <a:off x="6000840" y="1428840"/>
            <a:ext cx="2508120" cy="153828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6" descr="log_mag3"/>
          <p:cNvPicPr/>
          <p:nvPr/>
        </p:nvPicPr>
        <p:blipFill>
          <a:blip r:embed="rId2"/>
          <a:stretch/>
        </p:blipFill>
        <p:spPr>
          <a:xfrm>
            <a:off x="0" y="6078600"/>
            <a:ext cx="677880" cy="779400"/>
          </a:xfrm>
          <a:prstGeom prst="rect">
            <a:avLst/>
          </a:prstGeom>
          <a:ln w="0">
            <a:noFill/>
          </a:ln>
        </p:spPr>
      </p:pic>
      <p:sp>
        <p:nvSpPr>
          <p:cNvPr id="907" name="Rectangle 7"/>
          <p:cNvSpPr/>
          <p:nvPr/>
        </p:nvSpPr>
        <p:spPr>
          <a:xfrm>
            <a:off x="5500800" y="4929120"/>
            <a:ext cx="33163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7640" indent="-647640">
              <a:lnSpc>
                <a:spcPct val="90000"/>
              </a:lnSpc>
              <a:spcBef>
                <a:spcPts val="400"/>
              </a:spcBef>
              <a:buClr>
                <a:srgbClr val="f3a447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Diseñemos un instrumento cualitativo con su herramienta de cal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53960" y="304920"/>
            <a:ext cx="72216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a5b592"/>
                </a:solidFill>
                <a:latin typeface="Georgia"/>
              </a:rPr>
              <a:t>Reconstruyendo los conceptos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aramond"/>
              </a:rPr>
              <a:t>Definición colegiada d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Evaluación </a:t>
            </a: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Evaluación educativa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Evaluación del aprendizaje 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Evaluación de las competencias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Actividad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Discutir y presentar los conceptos 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Presentación de los conceptos en papel bond o power point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Tiempo: 20 min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</p:txBody>
      </p:sp>
      <p:pic>
        <p:nvPicPr>
          <p:cNvPr id="910" name="Picture 4" descr="log_mag3"/>
          <p:cNvPicPr/>
          <p:nvPr/>
        </p:nvPicPr>
        <p:blipFill>
          <a:blip r:embed="rId1"/>
          <a:stretch/>
        </p:blipFill>
        <p:spPr>
          <a:xfrm>
            <a:off x="0" y="6078600"/>
            <a:ext cx="67788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53600" y="515880"/>
            <a:ext cx="6162840" cy="6732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a5b592"/>
                </a:solidFill>
                <a:latin typeface="Georgia"/>
              </a:rPr>
              <a:t>Evaluación</a:t>
            </a:r>
            <a:r>
              <a:rPr b="1" lang="es-MX" sz="3100" spc="-1" strike="noStrike">
                <a:solidFill>
                  <a:srgbClr val="a5b592"/>
                </a:solidFill>
                <a:latin typeface="Georgia"/>
              </a:rPr>
              <a:t> 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Oval 4"/>
          <p:cNvSpPr/>
          <p:nvPr/>
        </p:nvSpPr>
        <p:spPr>
          <a:xfrm>
            <a:off x="3492360" y="3141720"/>
            <a:ext cx="1305000" cy="67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rm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5"/>
          <p:cNvSpPr/>
          <p:nvPr/>
        </p:nvSpPr>
        <p:spPr>
          <a:xfrm>
            <a:off x="1187280" y="2852640"/>
            <a:ext cx="1689120" cy="746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s-ES" sz="11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6"/>
          <p:cNvSpPr/>
          <p:nvPr/>
        </p:nvSpPr>
        <p:spPr>
          <a:xfrm>
            <a:off x="5364000" y="2924280"/>
            <a:ext cx="1729080" cy="74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. </a:t>
            </a: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om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7"/>
          <p:cNvSpPr/>
          <p:nvPr/>
        </p:nvSpPr>
        <p:spPr>
          <a:xfrm>
            <a:off x="4211640" y="2637000"/>
            <a:ext cx="1440" cy="49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8"/>
          <p:cNvSpPr/>
          <p:nvPr/>
        </p:nvSpPr>
        <p:spPr>
          <a:xfrm>
            <a:off x="2050920" y="371628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9"/>
          <p:cNvSpPr/>
          <p:nvPr/>
        </p:nvSpPr>
        <p:spPr>
          <a:xfrm>
            <a:off x="4211640" y="3860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0"/>
          <p:cNvSpPr/>
          <p:nvPr/>
        </p:nvSpPr>
        <p:spPr>
          <a:xfrm>
            <a:off x="6516720" y="3860640"/>
            <a:ext cx="571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1"/>
          <p:cNvSpPr/>
          <p:nvPr/>
        </p:nvSpPr>
        <p:spPr>
          <a:xfrm flipV="1">
            <a:off x="5003640" y="3860280"/>
            <a:ext cx="64152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"/>
          <p:cNvSpPr/>
          <p:nvPr/>
        </p:nvSpPr>
        <p:spPr>
          <a:xfrm flipH="1">
            <a:off x="2843280" y="2565360"/>
            <a:ext cx="38736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3"/>
          <p:cNvSpPr/>
          <p:nvPr/>
        </p:nvSpPr>
        <p:spPr>
          <a:xfrm>
            <a:off x="5148360" y="2565360"/>
            <a:ext cx="41256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14"/>
          <p:cNvSpPr/>
          <p:nvPr/>
        </p:nvSpPr>
        <p:spPr>
          <a:xfrm>
            <a:off x="1547640" y="4365720"/>
            <a:ext cx="140184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15"/>
          <p:cNvSpPr/>
          <p:nvPr/>
        </p:nvSpPr>
        <p:spPr>
          <a:xfrm>
            <a:off x="3635280" y="4653000"/>
            <a:ext cx="1127160" cy="863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Ju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16"/>
          <p:cNvSpPr/>
          <p:nvPr/>
        </p:nvSpPr>
        <p:spPr>
          <a:xfrm>
            <a:off x="6659640" y="4292640"/>
            <a:ext cx="1441440" cy="954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7"/>
          <p:cNvSpPr/>
          <p:nvPr/>
        </p:nvSpPr>
        <p:spPr>
          <a:xfrm flipV="1">
            <a:off x="2987640" y="3860280"/>
            <a:ext cx="720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8"/>
          <p:cNvSpPr/>
          <p:nvPr/>
        </p:nvSpPr>
        <p:spPr>
          <a:xfrm>
            <a:off x="4211640" y="98100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19"/>
          <p:cNvSpPr/>
          <p:nvPr/>
        </p:nvSpPr>
        <p:spPr>
          <a:xfrm>
            <a:off x="3492360" y="1484280"/>
            <a:ext cx="136872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 Narrow"/>
                <a:ea typeface="Times New Roman"/>
              </a:rPr>
              <a:t>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20"/>
          <p:cNvSpPr/>
          <p:nvPr/>
        </p:nvSpPr>
        <p:spPr>
          <a:xfrm>
            <a:off x="1719360" y="145080"/>
            <a:ext cx="215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Fig. 2 El proceso genérico de evaluación </a:t>
            </a:r>
            <a:r>
              <a:rPr b="0" lang="es-MX" sz="1000" spc="-1" strike="noStrike" baseline="30000">
                <a:solidFill>
                  <a:srgbClr val="333399"/>
                </a:solidFill>
                <a:latin typeface="Arial Narrow"/>
                <a:ea typeface="Times New Roman"/>
              </a:rPr>
              <a:t>[1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21"/>
          <p:cNvSpPr/>
          <p:nvPr/>
        </p:nvSpPr>
        <p:spPr>
          <a:xfrm>
            <a:off x="1693800" y="6188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22"/>
          <p:cNvSpPr/>
          <p:nvPr/>
        </p:nvSpPr>
        <p:spPr>
          <a:xfrm>
            <a:off x="1763640" y="2133720"/>
            <a:ext cx="58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23"/>
          <p:cNvSpPr/>
          <p:nvPr/>
        </p:nvSpPr>
        <p:spPr>
          <a:xfrm>
            <a:off x="1712880" y="2566800"/>
            <a:ext cx="207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4"/>
          <p:cNvSpPr/>
          <p:nvPr/>
        </p:nvSpPr>
        <p:spPr>
          <a:xfrm>
            <a:off x="1716120" y="37242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25"/>
          <p:cNvSpPr/>
          <p:nvPr/>
        </p:nvSpPr>
        <p:spPr>
          <a:xfrm>
            <a:off x="1332000" y="4363920"/>
            <a:ext cx="1481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26"/>
          <p:cNvSpPr/>
          <p:nvPr/>
        </p:nvSpPr>
        <p:spPr>
          <a:xfrm>
            <a:off x="1716120" y="536940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27"/>
          <p:cNvSpPr/>
          <p:nvPr/>
        </p:nvSpPr>
        <p:spPr>
          <a:xfrm>
            <a:off x="1714680" y="5827680"/>
            <a:ext cx="301752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28"/>
          <p:cNvSpPr/>
          <p:nvPr/>
        </p:nvSpPr>
        <p:spPr>
          <a:xfrm>
            <a:off x="1913760" y="5835240"/>
            <a:ext cx="3716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 baseline="30000">
                <a:solidFill>
                  <a:srgbClr val="000000"/>
                </a:solidFill>
                <a:latin typeface="Arial Narrow"/>
                <a:ea typeface="Times New Roman"/>
              </a:rPr>
              <a:t>[1]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</a:t>
            </a:r>
            <a:r>
              <a:rPr b="0" lang="es-ES" sz="1100" spc="-1" strike="noStrike" baseline="30000">
                <a:solidFill>
                  <a:srgbClr val="333399"/>
                </a:solidFill>
                <a:latin typeface="Arial Narrow"/>
                <a:ea typeface="Times New Roman"/>
              </a:rPr>
              <a:t> Stufflebeam, D.L. y Shinkfield, A.J. (1993). Evaluación Sistemática. Guía teórica y    práctica. Paídos-Madrid. ME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Picture 29" descr="log_mag3"/>
          <p:cNvPicPr/>
          <p:nvPr/>
        </p:nvPicPr>
        <p:blipFill>
          <a:blip r:embed="rId1"/>
          <a:stretch/>
        </p:blipFill>
        <p:spPr>
          <a:xfrm>
            <a:off x="214200" y="6078600"/>
            <a:ext cx="677880" cy="7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774440" y="320400"/>
            <a:ext cx="6405480" cy="8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a5b592"/>
                </a:solidFill>
                <a:latin typeface="Georgia"/>
              </a:rPr>
              <a:t>Qué es evaluación</a:t>
            </a:r>
            <a:endParaRPr b="0" lang="en-US" sz="35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914400" y="1356840"/>
            <a:ext cx="7300800" cy="4357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44d26"/>
                </a:solidFill>
                <a:latin typeface="Garamond"/>
              </a:rPr>
              <a:t>Proceso psicológico superior, inherente al ser humano, se relaciona con la capacidad de tomar información del entorno y enjuiciarla, ello </a:t>
            </a:r>
            <a:r>
              <a:rPr b="0" lang="es-ES" sz="3200" spc="-1" strike="noStrike">
                <a:solidFill>
                  <a:srgbClr val="444d26"/>
                </a:solidFill>
                <a:latin typeface="Garamond"/>
              </a:rPr>
              <a:t>le permite tomar decisiones  y resolver necesidades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41" name="Picture 4" descr="log_mag3"/>
          <p:cNvPicPr/>
          <p:nvPr/>
        </p:nvPicPr>
        <p:blipFill>
          <a:blip r:embed="rId1"/>
          <a:stretch/>
        </p:blipFill>
        <p:spPr>
          <a:xfrm>
            <a:off x="0" y="6078600"/>
            <a:ext cx="677880" cy="77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265480" y="503280"/>
            <a:ext cx="631008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a5b592"/>
                </a:solidFill>
                <a:latin typeface="Georgia"/>
              </a:rPr>
              <a:t>Evaluación educativa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44d26"/>
                </a:solidFill>
                <a:latin typeface="Garamond"/>
              </a:rPr>
              <a:t>Proceso</a:t>
            </a: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 para </a:t>
            </a:r>
            <a:r>
              <a:rPr b="1" lang="es-MX" sz="2400" spc="-1" strike="noStrike">
                <a:solidFill>
                  <a:srgbClr val="444d26"/>
                </a:solidFill>
                <a:latin typeface="Garamond"/>
              </a:rPr>
              <a:t>obtener información</a:t>
            </a: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 sobr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    </a:t>
            </a: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cualquier </a:t>
            </a:r>
            <a:r>
              <a:rPr b="1" lang="es-MX" sz="2400" spc="-1" strike="noStrike">
                <a:solidFill>
                  <a:srgbClr val="444d26"/>
                </a:solidFill>
                <a:latin typeface="Garamond"/>
              </a:rPr>
              <a:t>componente del sistema educativo</a:t>
            </a: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, emitir </a:t>
            </a:r>
            <a:r>
              <a:rPr b="1" lang="es-MX" sz="2400" spc="-1" strike="noStrike">
                <a:solidFill>
                  <a:srgbClr val="444d26"/>
                </a:solidFill>
                <a:latin typeface="Garamond"/>
              </a:rPr>
              <a:t>juicios de valor</a:t>
            </a: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 referidos a ciertos </a:t>
            </a:r>
            <a:r>
              <a:rPr b="1" lang="es-MX" sz="2400" spc="-1" strike="noStrike">
                <a:solidFill>
                  <a:srgbClr val="444d26"/>
                </a:solidFill>
                <a:latin typeface="Garamond"/>
              </a:rPr>
              <a:t>criterios </a:t>
            </a: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y llegar a una toma de </a:t>
            </a:r>
            <a:r>
              <a:rPr b="1" lang="es-MX" sz="2400" spc="-1" strike="noStrike">
                <a:solidFill>
                  <a:srgbClr val="444d26"/>
                </a:solidFill>
                <a:latin typeface="Garamond"/>
              </a:rPr>
              <a:t>decisiones </a:t>
            </a: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que lleven a la </a:t>
            </a:r>
            <a:r>
              <a:rPr b="1" lang="es-MX" sz="2400" spc="-1" strike="noStrike">
                <a:solidFill>
                  <a:srgbClr val="444d26"/>
                </a:solidFill>
                <a:latin typeface="Garamond"/>
              </a:rPr>
              <a:t>mejora</a:t>
            </a: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Funcional, sistemática, continua, integral, orientadora y cooperativa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Componentes del sistema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la planta física, el proceso administrativo, 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3640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la gestión directiva, el proceso de titulación.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1" marL="53640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aramond"/>
              </a:rPr>
              <a:t>rendimiento escolar estatal, municipal o nacional</a:t>
            </a:r>
            <a:r>
              <a:rPr b="0" lang="es-ES" sz="2400" spc="-1" strike="noStrike">
                <a:solidFill>
                  <a:srgbClr val="444d26"/>
                </a:solidFill>
                <a:latin typeface="Garamond"/>
              </a:rPr>
              <a:t> .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44" name="Picture 4" descr="clificando a gerardo"/>
          <p:cNvPicPr/>
          <p:nvPr/>
        </p:nvPicPr>
        <p:blipFill>
          <a:blip r:embed="rId1"/>
          <a:stretch/>
        </p:blipFill>
        <p:spPr>
          <a:xfrm>
            <a:off x="7308720" y="4221000"/>
            <a:ext cx="1300320" cy="17668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5" descr="log_mag3"/>
          <p:cNvPicPr/>
          <p:nvPr/>
        </p:nvPicPr>
        <p:blipFill>
          <a:blip r:embed="rId2"/>
          <a:stretch/>
        </p:blipFill>
        <p:spPr>
          <a:xfrm>
            <a:off x="0" y="6078600"/>
            <a:ext cx="677880" cy="7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334960" y="515520"/>
            <a:ext cx="558468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5b592"/>
                </a:solidFill>
                <a:latin typeface="Georgia"/>
              </a:rPr>
              <a:t>Evaluación del aprendizaje</a:t>
            </a:r>
            <a:br>
              <a:rPr sz="2800"/>
            </a:br>
            <a:r>
              <a:rPr b="0" lang="es-MX" sz="1900" spc="-1" strike="noStrike">
                <a:solidFill>
                  <a:srgbClr val="a5b592"/>
                </a:solidFill>
                <a:latin typeface="Georgia"/>
              </a:rPr>
              <a:t>(en canevá)</a:t>
            </a:r>
            <a:endParaRPr b="0" lang="en-US" sz="19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68360" y="1557360"/>
            <a:ext cx="8229600" cy="43178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44d26"/>
                </a:solidFill>
                <a:latin typeface="Garamond"/>
              </a:rPr>
              <a:t>Proceso ______, ________, ________, _________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44d26"/>
                </a:solidFill>
                <a:latin typeface="Garamond"/>
              </a:rPr>
              <a:t>Que recaba_______ para emitir______, con base en el logro de los _____________ curriculares, que permita la __________ de ____________ educativas tales como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444d26"/>
                </a:solidFill>
                <a:uFillTx/>
                <a:latin typeface="Garamond"/>
              </a:rPr>
              <a:t>Promoció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444d26"/>
                </a:solidFill>
                <a:uFillTx/>
                <a:latin typeface="Garamond"/>
              </a:rPr>
              <a:t>Estrategias remedial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44d26"/>
                </a:solidFill>
                <a:latin typeface="Garamond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44d26"/>
                </a:solidFill>
                <a:latin typeface="Garamond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48" name="Picture 4" descr="log_mag3"/>
          <p:cNvPicPr/>
          <p:nvPr/>
        </p:nvPicPr>
        <p:blipFill>
          <a:blip r:embed="rId1"/>
          <a:stretch/>
        </p:blipFill>
        <p:spPr>
          <a:xfrm>
            <a:off x="0" y="6078600"/>
            <a:ext cx="677880" cy="7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ba523"/>
                </a:solidFill>
                <a:latin typeface="Georgia"/>
              </a:rPr>
              <a:t>¿Estoy dispuesto al cambio?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50920" y="1341360"/>
          <a:ext cx="8496360" cy="4824360"/>
        </p:xfrm>
        <a:graphic>
          <a:graphicData uri="http://schemas.openxmlformats.org/drawingml/2006/table">
            <a:tbl>
              <a:tblPr/>
              <a:tblGrid>
                <a:gridCol w="763560"/>
                <a:gridCol w="6505560"/>
                <a:gridCol w="12272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dic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a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y promotor y partidario de los camb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i bien no soy quien promueve los cambios, por lo regular no me opongo a ellos de manera sistemá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nsidero ser una persona que cuando rechaza algún cambio expone razones bien fundament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stoy convencido de que al cambiar el contexto y las circunstancias debo cambiar mis concep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a de mis características es el pensamiento flexible y diverg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265480" y="304560"/>
            <a:ext cx="631008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a5b592"/>
                </a:solidFill>
                <a:latin typeface="Georgia"/>
              </a:rPr>
              <a:t>Evaluación de las competencias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468360" y="1125000"/>
            <a:ext cx="8229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82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444d26"/>
                </a:solidFill>
                <a:latin typeface="Garamond"/>
              </a:rPr>
              <a:t>Proceso</a:t>
            </a:r>
            <a:r>
              <a:rPr b="0" lang="es-MX" sz="2900" spc="-1" strike="noStrike">
                <a:solidFill>
                  <a:srgbClr val="444d26"/>
                </a:solidFill>
                <a:latin typeface="Garamond"/>
              </a:rPr>
              <a:t> funcional, sistemático, continuo, integral, orientador y cooperativo, para </a:t>
            </a:r>
            <a:r>
              <a:rPr b="1" lang="es-MX" sz="2900" spc="-1" strike="noStrike">
                <a:solidFill>
                  <a:srgbClr val="444d26"/>
                </a:solidFill>
                <a:latin typeface="Garamond"/>
              </a:rPr>
              <a:t>obtener información</a:t>
            </a:r>
            <a:r>
              <a:rPr b="0" lang="es-MX" sz="2900" spc="-1" strike="noStrike">
                <a:solidFill>
                  <a:srgbClr val="444d26"/>
                </a:solidFill>
                <a:latin typeface="Garamond"/>
              </a:rPr>
              <a:t> sobre la manera en que el estudiante demuestra ser competente a través de sus </a:t>
            </a:r>
            <a:r>
              <a:rPr b="1" lang="es-MX" sz="2900" spc="-1" strike="noStrike">
                <a:solidFill>
                  <a:srgbClr val="444d26"/>
                </a:solidFill>
                <a:latin typeface="Garamond"/>
              </a:rPr>
              <a:t>desempeños</a:t>
            </a:r>
            <a:r>
              <a:rPr b="0" lang="es-MX" sz="2900" spc="-1" strike="noStrike">
                <a:solidFill>
                  <a:srgbClr val="444d26"/>
                </a:solidFill>
                <a:latin typeface="Garamond"/>
              </a:rPr>
              <a:t>, sobre los que se emiten </a:t>
            </a:r>
            <a:r>
              <a:rPr b="1" lang="es-MX" sz="2900" spc="-1" strike="noStrike">
                <a:solidFill>
                  <a:srgbClr val="444d26"/>
                </a:solidFill>
                <a:latin typeface="Garamond"/>
              </a:rPr>
              <a:t>juicios de valor</a:t>
            </a:r>
            <a:r>
              <a:rPr b="0" lang="es-MX" sz="2900" spc="-1" strike="noStrike">
                <a:solidFill>
                  <a:srgbClr val="444d26"/>
                </a:solidFill>
                <a:latin typeface="Garamond"/>
              </a:rPr>
              <a:t> referidos a ciertos </a:t>
            </a:r>
            <a:r>
              <a:rPr b="1" lang="es-MX" sz="2900" spc="-1" strike="noStrike">
                <a:solidFill>
                  <a:srgbClr val="444d26"/>
                </a:solidFill>
                <a:latin typeface="Garamond"/>
              </a:rPr>
              <a:t>criterios </a:t>
            </a:r>
            <a:r>
              <a:rPr b="0" lang="es-MX" sz="2900" spc="-1" strike="noStrike">
                <a:solidFill>
                  <a:srgbClr val="444d26"/>
                </a:solidFill>
                <a:latin typeface="Garamond"/>
              </a:rPr>
              <a:t>para llegar a una toma de </a:t>
            </a:r>
            <a:r>
              <a:rPr b="1" lang="es-MX" sz="2900" spc="-1" strike="noStrike">
                <a:solidFill>
                  <a:srgbClr val="444d26"/>
                </a:solidFill>
                <a:latin typeface="Garamond"/>
              </a:rPr>
              <a:t>decisiones educativas </a:t>
            </a:r>
            <a:r>
              <a:rPr b="0" lang="es-MX" sz="2900" spc="-1" strike="noStrike">
                <a:solidFill>
                  <a:srgbClr val="444d26"/>
                </a:solidFill>
                <a:latin typeface="Garamond"/>
              </a:rPr>
              <a:t>que lleven a la </a:t>
            </a:r>
            <a:r>
              <a:rPr b="1" lang="es-MX" sz="2900" spc="-1" strike="noStrike">
                <a:solidFill>
                  <a:srgbClr val="444d26"/>
                </a:solidFill>
                <a:latin typeface="Garamond"/>
              </a:rPr>
              <a:t>mejora</a:t>
            </a:r>
            <a:r>
              <a:rPr b="0" lang="es-MX" sz="3300" spc="-1" strike="noStrike">
                <a:solidFill>
                  <a:srgbClr val="444d26"/>
                </a:solidFill>
                <a:latin typeface="Garamond"/>
              </a:rPr>
              <a:t> .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Garamond"/>
              </a:rPr>
              <a:t>A través de: 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1" marL="514440" indent="-25632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44d26"/>
                </a:solidFill>
                <a:latin typeface="Garamond"/>
              </a:rPr>
              <a:t>Instrumentos de evaluación cualitativa</a:t>
            </a:r>
            <a:endParaRPr b="0" lang="en-US" sz="2800" spc="-1" strike="noStrike">
              <a:solidFill>
                <a:srgbClr val="444d26"/>
              </a:solidFill>
              <a:latin typeface="Georgia"/>
            </a:endParaRPr>
          </a:p>
          <a:p>
            <a:pPr lvl="1" marL="514440" indent="-25632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44d26"/>
                </a:solidFill>
                <a:latin typeface="Garamond"/>
              </a:rPr>
              <a:t> </a:t>
            </a:r>
            <a:r>
              <a:rPr b="0" lang="es-MX" sz="2800" spc="-1" strike="noStrike">
                <a:solidFill>
                  <a:srgbClr val="444d26"/>
                </a:solidFill>
                <a:latin typeface="Garamond"/>
              </a:rPr>
              <a:t>Indicadores</a:t>
            </a:r>
            <a:endParaRPr b="0" lang="en-US" sz="2800" spc="-1" strike="noStrike">
              <a:solidFill>
                <a:srgbClr val="444d26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7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Garamond"/>
              </a:rPr>
              <a:t>Validados por el colegiado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51" name="Picture 4" descr="log_mag3"/>
          <p:cNvPicPr/>
          <p:nvPr/>
        </p:nvPicPr>
        <p:blipFill>
          <a:blip r:embed="rId1"/>
          <a:stretch/>
        </p:blipFill>
        <p:spPr>
          <a:xfrm>
            <a:off x="0" y="6078600"/>
            <a:ext cx="677880" cy="7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64920" y="304560"/>
            <a:ext cx="701028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a5b592"/>
                </a:solidFill>
                <a:latin typeface="Georgia"/>
              </a:rPr>
              <a:t>Las fases del proceso evaluativo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566280" y="1916280"/>
            <a:ext cx="8001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75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laneación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75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efinición de los indicadores</a:t>
            </a:r>
            <a:r>
              <a:rPr b="1" lang="es-ES" sz="3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75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iseño del instrumento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75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jecución en vivo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75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alificación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75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Integración y resguardo de la información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75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Uso de los resultado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75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Acompañamiento en el proceso de mejora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54" name="Picture 4" descr="log_mag3"/>
          <p:cNvPicPr/>
          <p:nvPr/>
        </p:nvPicPr>
        <p:blipFill>
          <a:blip r:embed="rId1"/>
          <a:stretch/>
        </p:blipFill>
        <p:spPr>
          <a:xfrm>
            <a:off x="0" y="6078600"/>
            <a:ext cx="677880" cy="7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a5b592"/>
                </a:solidFill>
                <a:latin typeface="Georgia"/>
              </a:rPr>
              <a:t>Evaluación de las competencias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444d26"/>
                </a:solidFill>
                <a:latin typeface="Georgia"/>
              </a:rPr>
              <a:t>Proceso</a:t>
            </a:r>
            <a:r>
              <a:rPr b="0" lang="es-MX" sz="2300" spc="-1" strike="noStrike">
                <a:solidFill>
                  <a:srgbClr val="444d26"/>
                </a:solidFill>
                <a:latin typeface="Georgia"/>
              </a:rPr>
              <a:t> funcional, sistemático, continuo, integral, orientador y cooperativo, para </a:t>
            </a:r>
            <a:r>
              <a:rPr b="1" lang="es-MX" sz="2300" spc="-1" strike="noStrike">
                <a:solidFill>
                  <a:srgbClr val="444d26"/>
                </a:solidFill>
                <a:latin typeface="Georgia"/>
              </a:rPr>
              <a:t>obtener información</a:t>
            </a:r>
            <a:r>
              <a:rPr b="0" lang="es-MX" sz="2300" spc="-1" strike="noStrike">
                <a:solidFill>
                  <a:srgbClr val="444d26"/>
                </a:solidFill>
                <a:latin typeface="Georgia"/>
              </a:rPr>
              <a:t> sobre la manera en que el niño demuestra ser competente a través de sus </a:t>
            </a:r>
            <a:r>
              <a:rPr b="1" lang="es-MX" sz="2300" spc="-1" strike="noStrike">
                <a:solidFill>
                  <a:srgbClr val="444d26"/>
                </a:solidFill>
                <a:latin typeface="Georgia"/>
              </a:rPr>
              <a:t>desempeños</a:t>
            </a:r>
            <a:r>
              <a:rPr b="0" lang="es-MX" sz="2300" spc="-1" strike="noStrike">
                <a:solidFill>
                  <a:srgbClr val="444d26"/>
                </a:solidFill>
                <a:latin typeface="Georgia"/>
              </a:rPr>
              <a:t>, sobre los que se emiten </a:t>
            </a:r>
            <a:r>
              <a:rPr b="1" lang="es-MX" sz="2300" spc="-1" strike="noStrike">
                <a:solidFill>
                  <a:srgbClr val="444d26"/>
                </a:solidFill>
                <a:latin typeface="Georgia"/>
              </a:rPr>
              <a:t>juicios de valor</a:t>
            </a:r>
            <a:r>
              <a:rPr b="0" lang="es-MX" sz="2300" spc="-1" strike="noStrike">
                <a:solidFill>
                  <a:srgbClr val="444d26"/>
                </a:solidFill>
                <a:latin typeface="Georgia"/>
              </a:rPr>
              <a:t> referidos a ciertos </a:t>
            </a:r>
            <a:r>
              <a:rPr b="1" lang="es-MX" sz="2300" spc="-1" strike="noStrike">
                <a:solidFill>
                  <a:srgbClr val="444d26"/>
                </a:solidFill>
                <a:latin typeface="Georgia"/>
              </a:rPr>
              <a:t>criterios </a:t>
            </a:r>
            <a:r>
              <a:rPr b="0" lang="es-MX" sz="2300" spc="-1" strike="noStrike">
                <a:solidFill>
                  <a:srgbClr val="444d26"/>
                </a:solidFill>
                <a:latin typeface="Georgia"/>
              </a:rPr>
              <a:t>para llegar a una toma de </a:t>
            </a:r>
            <a:r>
              <a:rPr b="1" lang="es-MX" sz="2300" spc="-1" strike="noStrike">
                <a:solidFill>
                  <a:srgbClr val="444d26"/>
                </a:solidFill>
                <a:latin typeface="Georgia"/>
              </a:rPr>
              <a:t>decisiones educativas </a:t>
            </a:r>
            <a:r>
              <a:rPr b="0" lang="es-MX" sz="2300" spc="-1" strike="noStrike">
                <a:solidFill>
                  <a:srgbClr val="444d26"/>
                </a:solidFill>
                <a:latin typeface="Georgia"/>
              </a:rPr>
              <a:t>que lleven a la </a:t>
            </a:r>
            <a:r>
              <a:rPr b="1" lang="es-MX" sz="2300" spc="-1" strike="noStrike">
                <a:solidFill>
                  <a:srgbClr val="444d26"/>
                </a:solidFill>
                <a:latin typeface="Georgia"/>
              </a:rPr>
              <a:t>mejora</a:t>
            </a: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 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444d26"/>
                </a:solidFill>
                <a:latin typeface="Georgia"/>
              </a:rPr>
              <a:t>A través de: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eorgia"/>
              </a:rPr>
              <a:t>Instrumentos de evaluación cualitativa</a:t>
            </a:r>
            <a:endParaRPr b="0" lang="en-US" sz="2400" spc="-1" strike="noStrike">
              <a:solidFill>
                <a:srgbClr val="444d2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eorgia"/>
              </a:rPr>
              <a:t>Indicador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eorgia"/>
              </a:rPr>
              <a:t>herramientas de calificación: Rúbrica, escala , lista de verifica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44d26"/>
                </a:solidFill>
                <a:latin typeface="Georgia"/>
              </a:rPr>
              <a:t>Validados por el colegiad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57" name="Picture 4" descr="log_mag3"/>
          <p:cNvPicPr/>
          <p:nvPr/>
        </p:nvPicPr>
        <p:blipFill>
          <a:blip r:embed="rId1"/>
          <a:stretch/>
        </p:blipFill>
        <p:spPr>
          <a:xfrm>
            <a:off x="0" y="6138720"/>
            <a:ext cx="6253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828360" y="317520"/>
            <a:ext cx="73515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ba523"/>
                </a:solidFill>
                <a:latin typeface="Georgia"/>
              </a:rPr>
              <a:t>Evaluación </a:t>
            </a:r>
            <a:endParaRPr b="0" lang="en-US" sz="40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44d26"/>
                </a:solidFill>
                <a:latin typeface="Georgia"/>
              </a:rPr>
              <a:t>Definición de los indicadores</a:t>
            </a:r>
            <a:r>
              <a:rPr b="1" lang="es-ES" sz="2800" spc="-1" strike="noStrike">
                <a:solidFill>
                  <a:srgbClr val="444d26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39880" indent="-495360">
              <a:spcBef>
                <a:spcPts val="70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44d26"/>
                </a:solidFill>
                <a:latin typeface="Georgia"/>
              </a:rPr>
              <a:t>Criterios de exigencia que dan cuenta de que la competencia está presente o no. </a:t>
            </a:r>
            <a:endParaRPr b="0" lang="en-US" sz="2800" spc="-1" strike="noStrike">
              <a:solidFill>
                <a:srgbClr val="444d26"/>
              </a:solidFill>
              <a:latin typeface="Georgia"/>
            </a:endParaRPr>
          </a:p>
          <a:p>
            <a:pPr marL="571680" indent="-571680">
              <a:spcBef>
                <a:spcPts val="700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44d26"/>
                </a:solidFill>
                <a:latin typeface="Georgia"/>
              </a:rPr>
              <a:t>Instrumento de evaluació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39880" indent="-495360">
              <a:spcBef>
                <a:spcPts val="5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44d26"/>
                </a:solidFill>
                <a:latin typeface="Georgia"/>
              </a:rPr>
              <a:t>Portafolios, mapa mental, diario, exposición oral, representación plástica, dramatización.</a:t>
            </a:r>
            <a:endParaRPr b="0" lang="en-US" sz="2300" spc="-1" strike="noStrike">
              <a:solidFill>
                <a:srgbClr val="444d26"/>
              </a:solidFill>
              <a:latin typeface="Georgia"/>
            </a:endParaRPr>
          </a:p>
          <a:p>
            <a:pPr marL="571680" indent="-571680">
              <a:spcBef>
                <a:spcPts val="700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44d26"/>
                </a:solidFill>
                <a:latin typeface="Georgia"/>
              </a:rPr>
              <a:t>Herramienta de calificació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39880" indent="-495360">
              <a:spcBef>
                <a:spcPts val="700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44d26"/>
                </a:solidFill>
                <a:latin typeface="Georgia"/>
              </a:rPr>
              <a:t>Rúbrica, escala o lista de verificación </a:t>
            </a:r>
            <a:endParaRPr b="0" lang="en-US" sz="2800" spc="-1" strike="noStrike">
              <a:solidFill>
                <a:srgbClr val="444d26"/>
              </a:solidFill>
              <a:latin typeface="Georgia"/>
            </a:endParaRPr>
          </a:p>
          <a:p>
            <a:pPr marL="571680" indent="-571680">
              <a:spcBef>
                <a:spcPts val="700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44d26"/>
                </a:solidFill>
                <a:latin typeface="Georgia"/>
              </a:rPr>
              <a:t>Integración y uso de los resultad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60" name="Picture 4" descr="log_mag3"/>
          <p:cNvPicPr/>
          <p:nvPr/>
        </p:nvPicPr>
        <p:blipFill>
          <a:blip r:embed="rId1"/>
          <a:stretch/>
        </p:blipFill>
        <p:spPr>
          <a:xfrm>
            <a:off x="0" y="6138720"/>
            <a:ext cx="625320" cy="7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a5b592"/>
                </a:solidFill>
                <a:latin typeface="Georgia"/>
              </a:rPr>
              <a:t>Formas de </a:t>
            </a:r>
            <a:r>
              <a:rPr b="1" lang="es-ES" sz="3300" spc="-1" strike="noStrike">
                <a:solidFill>
                  <a:srgbClr val="a5b592"/>
                </a:solidFill>
                <a:latin typeface="Georgia"/>
              </a:rPr>
              <a:t> Evaluación Cualitativa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Portafolio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Mapa menta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Mapa conceptua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Friso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Cartel, collag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Exposición ora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Diario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44d26"/>
                </a:solidFill>
                <a:latin typeface="Georgia"/>
              </a:rPr>
              <a:t>Debat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Método de caso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Solución de problema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Proyecto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eorgia"/>
              </a:rPr>
              <a:t>Diario circulant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64" name="Picture 6" descr="log_mag3"/>
          <p:cNvPicPr/>
          <p:nvPr/>
        </p:nvPicPr>
        <p:blipFill>
          <a:blip r:embed="rId1"/>
          <a:stretch/>
        </p:blipFill>
        <p:spPr>
          <a:xfrm>
            <a:off x="0" y="6138720"/>
            <a:ext cx="6253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a5b592"/>
                </a:solidFill>
                <a:latin typeface="Georgia"/>
              </a:rPr>
              <a:t>Las herramientas de  calificación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100000"/>
              </a:lnSpc>
              <a:spcBef>
                <a:spcPts val="79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44d26"/>
                </a:solidFill>
                <a:latin typeface="Garamond"/>
              </a:rPr>
              <a:t>Lista de verificación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79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79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44d26"/>
                </a:solidFill>
                <a:latin typeface="Garamond"/>
              </a:rPr>
              <a:t>Escala estimativa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79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799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44d26"/>
                </a:solidFill>
                <a:latin typeface="Garamond"/>
              </a:rPr>
              <a:t>Rúbrica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67" name="Picture 4" descr="criterial"/>
          <p:cNvPicPr/>
          <p:nvPr/>
        </p:nvPicPr>
        <p:blipFill>
          <a:blip r:embed="rId1"/>
          <a:stretch/>
        </p:blipFill>
        <p:spPr>
          <a:xfrm>
            <a:off x="5508720" y="1268280"/>
            <a:ext cx="1655640" cy="15843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5" descr="componentes de la rubrica"/>
          <p:cNvPicPr/>
          <p:nvPr/>
        </p:nvPicPr>
        <p:blipFill>
          <a:blip r:embed="rId2"/>
          <a:stretch/>
        </p:blipFill>
        <p:spPr>
          <a:xfrm>
            <a:off x="5292720" y="4221000"/>
            <a:ext cx="2160720" cy="1951200"/>
          </a:xfrm>
          <a:prstGeom prst="rect">
            <a:avLst/>
          </a:prstGeom>
          <a:ln w="0">
            <a:noFill/>
          </a:ln>
        </p:spPr>
      </p:pic>
      <p:sp>
        <p:nvSpPr>
          <p:cNvPr id="969" name="Text Box 6"/>
          <p:cNvSpPr/>
          <p:nvPr/>
        </p:nvSpPr>
        <p:spPr>
          <a:xfrm>
            <a:off x="4356000" y="292428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xpresa y comunic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  R  B  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baja colaborativament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  R  B  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7" descr="log_mag3"/>
          <p:cNvPicPr/>
          <p:nvPr/>
        </p:nvPicPr>
        <p:blipFill>
          <a:blip r:embed="rId3"/>
          <a:stretch/>
        </p:blipFill>
        <p:spPr>
          <a:xfrm>
            <a:off x="0" y="6138720"/>
            <a:ext cx="625320" cy="719280"/>
          </a:xfrm>
          <a:prstGeom prst="rect">
            <a:avLst/>
          </a:prstGeom>
          <a:ln w="0">
            <a:noFill/>
          </a:ln>
        </p:spPr>
      </p:pic>
      <p:sp>
        <p:nvSpPr>
          <p:cNvPr id="971" name="Line 8"/>
          <p:cNvSpPr/>
          <p:nvPr/>
        </p:nvSpPr>
        <p:spPr>
          <a:xfrm>
            <a:off x="7093080" y="2997360"/>
            <a:ext cx="43164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9"/>
          <p:cNvSpPr/>
          <p:nvPr/>
        </p:nvSpPr>
        <p:spPr>
          <a:xfrm flipH="1">
            <a:off x="7164360" y="2924280"/>
            <a:ext cx="28728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10"/>
          <p:cNvSpPr/>
          <p:nvPr/>
        </p:nvSpPr>
        <p:spPr>
          <a:xfrm>
            <a:off x="7812000" y="3357720"/>
            <a:ext cx="144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11"/>
          <p:cNvSpPr/>
          <p:nvPr/>
        </p:nvSpPr>
        <p:spPr>
          <a:xfrm flipH="1">
            <a:off x="7740720" y="3357720"/>
            <a:ext cx="21600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a5b592"/>
                </a:solidFill>
                <a:latin typeface="Georgia"/>
              </a:rPr>
              <a:t>Lista de verificación</a:t>
            </a:r>
            <a:endParaRPr b="0" lang="en-US" sz="3400" spc="-1" strike="noStrike">
              <a:solidFill>
                <a:srgbClr val="cba523"/>
              </a:solidFill>
              <a:latin typeface="Georgia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179280" y="907920"/>
          <a:ext cx="8682120" cy="5386680"/>
        </p:xfrm>
        <a:graphic>
          <a:graphicData uri="http://schemas.openxmlformats.org/drawingml/2006/table">
            <a:tbl>
              <a:tblPr/>
              <a:tblGrid>
                <a:gridCol w="6066720"/>
                <a:gridCol w="500040"/>
                <a:gridCol w="357120"/>
                <a:gridCol w="428040"/>
                <a:gridCol w="285840"/>
                <a:gridCol w="428400"/>
                <a:gridCol w="401040"/>
                <a:gridCol w="21600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                                      </a:t>
                      </a: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p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 producción indica  los componentes del perfil de egreso categorías, competencias genérica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 diseño muestra jerarquía entre ell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mplifica las competencia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 expresa con fluide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ividad en el produc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equipo delegó funcion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só literatu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satisfacción al trabajar en ese equip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8ebff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vel de logro 7/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b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74200" y="339840"/>
            <a:ext cx="80010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a5b592"/>
                </a:solidFill>
                <a:latin typeface="Georgia"/>
              </a:rPr>
              <a:t>Escala estimativa</a:t>
            </a:r>
            <a:endParaRPr b="0" lang="en-US" sz="3100" spc="-1" strike="noStrike">
              <a:solidFill>
                <a:srgbClr val="cba523"/>
              </a:solidFill>
              <a:latin typeface="Georgia"/>
            </a:endParaRPr>
          </a:p>
        </p:txBody>
      </p:sp>
      <p:graphicFrame>
        <p:nvGraphicFramePr>
          <p:cNvPr id="978" name=""/>
          <p:cNvGraphicFramePr/>
          <p:nvPr/>
        </p:nvGraphicFramePr>
        <p:xfrm>
          <a:off x="0" y="981000"/>
          <a:ext cx="8893080" cy="5156280"/>
        </p:xfrm>
        <a:graphic>
          <a:graphicData uri="http://schemas.openxmlformats.org/drawingml/2006/table">
            <a:tbl>
              <a:tblPr/>
              <a:tblGrid>
                <a:gridCol w="6132600"/>
                <a:gridCol w="690480"/>
                <a:gridCol w="690480"/>
                <a:gridCol w="690480"/>
                <a:gridCol w="68904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 de produc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 -B-  MB -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r, bueno, muy bueno, excelen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vel de logro   7 en nivel MB y  2 en nivel 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d0f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ntrega formato de plane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14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esenta al grupo su formato de eval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 formato de evaluación inicia con nombre y tit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scribe segmento curric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ica productos- presentación grupal, ma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 entregables.- mapa, preguntas, evidenc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fine indicadores.- de proceso y de produ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lige la herramienta de calificación.-lista de verificación, escala estimativa, rúb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fine nivel de logro de la compet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457524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cba523"/>
                </a:solidFill>
                <a:latin typeface="Georgia"/>
              </a:rPr>
              <a:t>Rúbrica</a:t>
            </a:r>
            <a:endParaRPr b="0" lang="en-US" sz="3400" spc="-1" strike="noStrike">
              <a:solidFill>
                <a:srgbClr val="cba523"/>
              </a:solidFill>
              <a:latin typeface="Georgia"/>
            </a:endParaRPr>
          </a:p>
        </p:txBody>
      </p:sp>
      <p:graphicFrame>
        <p:nvGraphicFramePr>
          <p:cNvPr id="980" name=""/>
          <p:cNvGraphicFramePr/>
          <p:nvPr/>
        </p:nvGraphicFramePr>
        <p:xfrm>
          <a:off x="250920" y="907920"/>
          <a:ext cx="8713800" cy="5507280"/>
        </p:xfrm>
        <a:graphic>
          <a:graphicData uri="http://schemas.openxmlformats.org/drawingml/2006/table">
            <a:tbl>
              <a:tblPr/>
              <a:tblGrid>
                <a:gridCol w="3249360"/>
                <a:gridCol w="1428840"/>
                <a:gridCol w="1285920"/>
                <a:gridCol w="1428840"/>
                <a:gridCol w="1320840"/>
              </a:tblGrid>
              <a:tr h="504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c4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veles de desempe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6d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cipi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an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er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bdff"/>
                    </a:solidFill>
                  </a:tcPr>
                </a:tc>
              </a:tr>
              <a:tr h="13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a formato de plan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a formato incompleto fuera de ti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a el formato en tiempo pero no en f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formato completo en tiempo  pero pobre en algunos rub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mato completo en tiempo forma contenido destacado nada que agreg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one productos frente al grupo con claridad y fluid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one  y se apoya en texto, poca claridad poca fluid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one  se apoya en sus materiales elabo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estra claridad y fluidez al exponer todavía mejorab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one  con dominio capta la atención del grupo agrega plu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equipo delegó fun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material didáctico muestra crea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2fe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tan la atención del grupo al expo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2fe"/>
                    </a:solidFill>
                  </a:tcPr>
                </a:tc>
              </a:tr>
            </a:tbl>
          </a:graphicData>
        </a:graphic>
      </p:graphicFrame>
      <p:sp>
        <p:nvSpPr>
          <p:cNvPr id="981" name="Text Box 136"/>
          <p:cNvSpPr/>
          <p:nvPr/>
        </p:nvSpPr>
        <p:spPr>
          <a:xfrm>
            <a:off x="6286680" y="66754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descr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2060"/>
                </a:solidFill>
                <a:latin typeface="Georgia"/>
              </a:rPr>
              <a:t>www.capacitacieci.com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Envíenos sus requerimientos, preguntas o comentarios acerca de CIECI. llamarnos a los teléfono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5549-2997, 5689-4038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escribirnos al correo </a:t>
            </a:r>
            <a:r>
              <a:rPr b="1" lang="es-MX" sz="2700" spc="-1" strike="noStrike">
                <a:solidFill>
                  <a:srgbClr val="000000"/>
                </a:solidFill>
                <a:latin typeface="Georgia"/>
              </a:rPr>
              <a:t>informes@capacitacieci.com</a:t>
            </a: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  donde con gusto le atenderemo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jose_de_jesus_velasquez@hotmail.c0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83" name="6 Título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4" descr="logo_CIECI_v2"/>
          <p:cNvPicPr/>
          <p:nvPr/>
        </p:nvPicPr>
        <p:blipFill>
          <a:blip r:embed="rId2"/>
          <a:stretch/>
        </p:blipFill>
        <p:spPr>
          <a:xfrm>
            <a:off x="468360" y="260280"/>
            <a:ext cx="2590920" cy="94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7772400" cy="107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Georgia"/>
              </a:rPr>
              <a:t>Mis expectativas</a:t>
            </a:r>
            <a:endParaRPr b="0" lang="en-US" sz="42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44d26"/>
                </a:solidFill>
                <a:latin typeface="Georgia"/>
              </a:rPr>
              <a:t>LO QUE ESPERO DE ESTE TALLER ES 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3 Cara sonriente"/>
          <p:cNvSpPr/>
          <p:nvPr/>
        </p:nvSpPr>
        <p:spPr>
          <a:xfrm>
            <a:off x="7596360" y="5877000"/>
            <a:ext cx="576000" cy="431640"/>
          </a:xfrm>
          <a:prstGeom prst="smileyFace">
            <a:avLst>
              <a:gd name="adj" fmla="val 9282"/>
            </a:avLst>
          </a:prstGeom>
          <a:solidFill>
            <a:srgbClr val="a5b592"/>
          </a:solidFill>
          <a:ln w="11520">
            <a:solidFill>
              <a:srgbClr val="78846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34"/>
          <p:cNvSpPr/>
          <p:nvPr/>
        </p:nvSpPr>
        <p:spPr>
          <a:xfrm>
            <a:off x="2000160" y="1285920"/>
            <a:ext cx="12574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TEORIAS  QUE TIENEN IMPLICACIONES EDUCATIV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3"/>
          <p:cNvSpPr/>
          <p:nvPr/>
        </p:nvSpPr>
        <p:spPr>
          <a:xfrm>
            <a:off x="3736800" y="1163520"/>
            <a:ext cx="176400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NOCIMIENTO PLENO DE LAS CARACTERISTICAS DEL EDUCANDO DEL SIGLO XX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32"/>
          <p:cNvSpPr/>
          <p:nvPr/>
        </p:nvSpPr>
        <p:spPr>
          <a:xfrm>
            <a:off x="5600880" y="1285920"/>
            <a:ext cx="240012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TURALEZA DE LOS CONTENIDOS O PROCESOS DE ENSEÑANZA-APRENDIZAJE Y NOCIONES BÁSICAS DE DISEÑO CURRI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3943440" y="2724120"/>
            <a:ext cx="1257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ESTRO COMPET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30"/>
          <p:cNvSpPr/>
          <p:nvPr/>
        </p:nvSpPr>
        <p:spPr>
          <a:xfrm>
            <a:off x="2786040" y="1857240"/>
            <a:ext cx="1157400" cy="8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29"/>
          <p:cNvSpPr/>
          <p:nvPr/>
        </p:nvSpPr>
        <p:spPr>
          <a:xfrm flipH="1">
            <a:off x="5200200" y="1857240"/>
            <a:ext cx="1086120" cy="8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28"/>
          <p:cNvSpPr/>
          <p:nvPr/>
        </p:nvSpPr>
        <p:spPr>
          <a:xfrm flipH="1">
            <a:off x="4471920" y="1739880"/>
            <a:ext cx="15840" cy="9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4514760" y="319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3029040" y="3436920"/>
            <a:ext cx="320040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SEÑO DE SITUACIONES DE APRENDI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5"/>
          <p:cNvSpPr/>
          <p:nvPr/>
        </p:nvSpPr>
        <p:spPr>
          <a:xfrm>
            <a:off x="1657440" y="3807000"/>
            <a:ext cx="10285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pós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4"/>
          <p:cNvSpPr/>
          <p:nvPr/>
        </p:nvSpPr>
        <p:spPr>
          <a:xfrm>
            <a:off x="2114640" y="3564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3"/>
          <p:cNvSpPr/>
          <p:nvPr/>
        </p:nvSpPr>
        <p:spPr>
          <a:xfrm>
            <a:off x="2114640" y="3564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900840" y="3990960"/>
            <a:ext cx="102888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1"/>
          <p:cNvSpPr/>
          <p:nvPr/>
        </p:nvSpPr>
        <p:spPr>
          <a:xfrm>
            <a:off x="5200560" y="29113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0"/>
          <p:cNvSpPr/>
          <p:nvPr/>
        </p:nvSpPr>
        <p:spPr>
          <a:xfrm flipH="1">
            <a:off x="7097760" y="2911320"/>
            <a:ext cx="46080" cy="108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9"/>
          <p:cNvSpPr/>
          <p:nvPr/>
        </p:nvSpPr>
        <p:spPr>
          <a:xfrm>
            <a:off x="2114640" y="41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8"/>
          <p:cNvSpPr/>
          <p:nvPr/>
        </p:nvSpPr>
        <p:spPr>
          <a:xfrm>
            <a:off x="1357200" y="4489560"/>
            <a:ext cx="986040" cy="70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p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¿Dón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7"/>
          <p:cNvSpPr/>
          <p:nvPr/>
        </p:nvSpPr>
        <p:spPr>
          <a:xfrm>
            <a:off x="2114640" y="4381560"/>
            <a:ext cx="0" cy="9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6"/>
          <p:cNvSpPr/>
          <p:nvPr/>
        </p:nvSpPr>
        <p:spPr>
          <a:xfrm>
            <a:off x="2457360" y="4498920"/>
            <a:ext cx="91440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¿Cuán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5"/>
          <p:cNvSpPr/>
          <p:nvPr/>
        </p:nvSpPr>
        <p:spPr>
          <a:xfrm>
            <a:off x="3600360" y="4471920"/>
            <a:ext cx="1028880" cy="70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tod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¿Có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4"/>
          <p:cNvSpPr/>
          <p:nvPr/>
        </p:nvSpPr>
        <p:spPr>
          <a:xfrm>
            <a:off x="4857840" y="4454640"/>
            <a:ext cx="685800" cy="8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d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¿con qué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3"/>
          <p:cNvSpPr/>
          <p:nvPr/>
        </p:nvSpPr>
        <p:spPr>
          <a:xfrm>
            <a:off x="5772240" y="4444920"/>
            <a:ext cx="10144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¿Quié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12"/>
          <p:cNvSpPr/>
          <p:nvPr/>
        </p:nvSpPr>
        <p:spPr>
          <a:xfrm>
            <a:off x="3371760" y="488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1"/>
          <p:cNvSpPr/>
          <p:nvPr/>
        </p:nvSpPr>
        <p:spPr>
          <a:xfrm>
            <a:off x="4629240" y="488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0"/>
          <p:cNvSpPr/>
          <p:nvPr/>
        </p:nvSpPr>
        <p:spPr>
          <a:xfrm>
            <a:off x="5543640" y="488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3828960" y="468360"/>
            <a:ext cx="1486080" cy="5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ECESIDADES DE LA PRÁCTICA EDUCATIV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"/>
          <p:cNvSpPr/>
          <p:nvPr/>
        </p:nvSpPr>
        <p:spPr>
          <a:xfrm flipV="1">
            <a:off x="2949480" y="617040"/>
            <a:ext cx="879480" cy="62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7"/>
          <p:cNvSpPr/>
          <p:nvPr/>
        </p:nvSpPr>
        <p:spPr>
          <a:xfrm>
            <a:off x="4471920" y="9399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6"/>
          <p:cNvSpPr/>
          <p:nvPr/>
        </p:nvSpPr>
        <p:spPr>
          <a:xfrm>
            <a:off x="5315040" y="617400"/>
            <a:ext cx="817560" cy="62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5"/>
          <p:cNvSpPr/>
          <p:nvPr/>
        </p:nvSpPr>
        <p:spPr>
          <a:xfrm flipV="1">
            <a:off x="6786720" y="4444920"/>
            <a:ext cx="26820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4"/>
          <p:cNvSpPr/>
          <p:nvPr/>
        </p:nvSpPr>
        <p:spPr>
          <a:xfrm>
            <a:off x="2343240" y="4957920"/>
            <a:ext cx="1141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3"/>
          <p:cNvSpPr/>
          <p:nvPr/>
        </p:nvSpPr>
        <p:spPr>
          <a:xfrm>
            <a:off x="3257640" y="1962000"/>
            <a:ext cx="2724120" cy="49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MENSIÓN HUMANA DE LA PRÁCTICA DOC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2"/>
          <p:cNvSpPr/>
          <p:nvPr/>
        </p:nvSpPr>
        <p:spPr>
          <a:xfrm>
            <a:off x="2000160" y="29113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"/>
          <p:cNvSpPr/>
          <p:nvPr/>
        </p:nvSpPr>
        <p:spPr>
          <a:xfrm>
            <a:off x="2000160" y="2911320"/>
            <a:ext cx="0" cy="84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0"/>
          <p:cNvSpPr/>
          <p:nvPr/>
        </p:nvSpPr>
        <p:spPr>
          <a:xfrm>
            <a:off x="45720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ba523"/>
                </a:solidFill>
                <a:latin typeface="Georgia"/>
              </a:rPr>
              <a:t>ACTIVACION</a:t>
            </a:r>
            <a:endParaRPr b="0" lang="en-US" sz="3300" spc="-1" strike="noStrike">
              <a:solidFill>
                <a:srgbClr val="cba523"/>
              </a:solidFill>
              <a:latin typeface="Georgi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Expresa en voz alta el nombre del color con que está escrita cadapalabr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e75a3"/>
                </a:solidFill>
                <a:latin typeface="Georgia"/>
              </a:rPr>
              <a:t>ROJ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8000"/>
                </a:solidFill>
                <a:latin typeface="Georgia"/>
              </a:rPr>
              <a:t>AZU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VERD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Georgia"/>
              </a:rPr>
              <a:t>NEGR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993300"/>
                </a:solidFill>
                <a:latin typeface="Georgia"/>
              </a:rPr>
              <a:t>BLANC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7:21:28Z</dcterms:created>
  <dc:creator>PATY FROLA</dc:creator>
  <dc:description/>
  <dc:language>en-US</dc:language>
  <cp:lastModifiedBy>usebeq</cp:lastModifiedBy>
  <dcterms:modified xsi:type="dcterms:W3CDTF">2010-11-19T23:44:41Z</dcterms:modified>
  <cp:revision>80</cp:revision>
  <dc:subject/>
  <dc:title>Diapositiva 1</dc:title>
</cp:coreProperties>
</file>